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DD69-658C-4578-A1AC-173E80AD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8824-ED37-4A22-A641-FB456307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964D-27C1-4949-9A3D-3341FEC4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4CE8-8EA0-474D-B342-FE57E175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5A89-7C20-44C4-8D85-81B554C4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D733-D288-4164-A4B2-DB39C8E5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4564-3DD7-409F-B713-8CAAD076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F7E5-5EE2-411C-8BB2-9A6FBD1F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68D8-09F3-4398-865E-F8F4F3F5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FE9C-86E0-4C99-A369-49D624D9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C6C5-DDC6-47BC-B16D-61BBF802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82E9-C0DE-425E-82E9-6EDB2F9B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E7EE-1006-4DC2-8744-DCB8911BBA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725040"/>
            <a:ext cx="791856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lect the “optimum” numbe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fea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lect the “best”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ea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a three-fold dis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gh computational dema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w generalization perform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or error estim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053080" y="401760"/>
            <a:ext cx="443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FEATURE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4282-2E39-4DA0-A88D-21F3CAC8B5FC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440" y="-243000"/>
            <a:ext cx="7535880" cy="58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decision</a:t>
            </a:r>
            <a:r>
              <a:rPr b="0" lang="el-GR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tep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i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,…,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e significance level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ρ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from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,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abl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[-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l-GR" sz="2200" spc="-1" strike="noStrike" baseline="-25000">
                <a:solidFill>
                  <a:srgbClr val="000000"/>
                </a:solidFill>
                <a:latin typeface="Times New Roman"/>
              </a:rPr>
              <a:t>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l-GR" sz="2200" spc="-1" strike="noStrike" baseline="-25000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 algn="just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An exampl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A random variabl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s variance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l-GR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(0.23)</a:t>
            </a:r>
            <a:r>
              <a:rPr b="0" lang="el-GR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Ν=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surements are obtained giving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        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significance level is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.05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</a:t>
            </a:r>
            <a:br>
              <a:rPr sz="2200"/>
            </a:b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st the hypothes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908000" y="3284640"/>
                <a:ext cx="25196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 </m:t>
                        </m:r>
                        <m:r>
                          <m:t xml:space="preserve">q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  accept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  </m:t>
                        </m:r>
                        <m:r>
                          <m:t xml:space="preserve">q</m:t>
                        </m:r>
                        <m:r>
                          <m:t xml:space="preserve">∈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 reject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476360" y="4776840"/>
                <a:ext cx="9367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547640" y="5878440"/>
                <a:ext cx="18352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μ</m:t>
                        </m:r>
                        <m:r>
                          <m:t xml:space="preserve">≠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979640" y="1701720"/>
            <a:ext cx="4392720" cy="1440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831920" y="1701720"/>
            <a:ext cx="12340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1-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0A87-45F2-4FCA-9600-3F64D1FDD946}" type="slidenum">
              <a:t>10</a:t>
            </a:fld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287280"/>
            <a:ext cx="74376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known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      i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,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able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e obtain the values with acceptance interval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-x</a:t>
            </a:r>
            <a:r>
              <a:rPr b="0" i="1" lang="el-GR" sz="2200" spc="-1" strike="noStrike" baseline="-25000">
                <a:solidFill>
                  <a:srgbClr val="000000"/>
                </a:solidFill>
                <a:latin typeface="Times New Roman"/>
              </a:rPr>
              <a:t>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l-GR" sz="2200" spc="-1" strike="noStrike" baseline="-25000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norma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,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851280" y="108000"/>
                <a:ext cx="10810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σ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476360" y="3645000"/>
                <a:ext cx="4464000" cy="26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ob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7</m:t>
                            </m:r>
                            <m:r>
                              <m:t xml:space="preserve">&lt;</m:t>
                            </m:r>
                            <m:f>
                              <m:num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7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b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</m:t>
                            </m:r>
                            <m:r>
                              <m:t xml:space="preserve">&lt;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b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&lt;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476360" y="5877000"/>
            <a:ext cx="352728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258920" y="1628640"/>
          <a:ext cx="7056360" cy="851040"/>
        </p:xfrm>
        <a:graphic>
          <a:graphicData uri="http://schemas.openxmlformats.org/drawingml/2006/table">
            <a:tbl>
              <a:tblPr/>
              <a:tblGrid>
                <a:gridCol w="673200"/>
                <a:gridCol w="695160"/>
                <a:gridCol w="865080"/>
                <a:gridCol w="792360"/>
                <a:gridCol w="718920"/>
                <a:gridCol w="720720"/>
                <a:gridCol w="792360"/>
                <a:gridCol w="863640"/>
                <a:gridCol w="9349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-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9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9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l-GR" sz="2200" spc="-1" strike="noStrike" baseline="-25000">
                          <a:solidFill>
                            <a:srgbClr val="00cc99"/>
                          </a:solidFill>
                          <a:latin typeface="Times New Roman"/>
                        </a:rPr>
                        <a:t>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9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C367-0CA5-4E83-92DA-ACD07DD76DFE}" type="slidenum">
              <a:t>11</a:t>
            </a:fld>
          </a:p>
        </p:txBody>
      </p:sp>
    </p:spTree>
  </p:cSld>
  <p:transition>
    <p:random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782640"/>
            <a:ext cx="74376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li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thin the abov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accept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erval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we accept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interval [1.237, 1.463] is also known as confidence interval at the </a:t>
            </a:r>
            <a:r>
              <a:rPr b="0" i="1" lang="el-GR" sz="2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i="1" lang="el-GR" sz="2200" spc="-1" strike="noStrike">
                <a:solidFill>
                  <a:srgbClr val="ff0000"/>
                </a:solidFill>
                <a:latin typeface="Times New Roman"/>
              </a:rPr>
              <a:t>ρ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.95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leve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:  There is no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vid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the 5% level that the mean value is not equal to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268360" y="1197000"/>
                <a:ext cx="1079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635280" y="1979640"/>
                <a:ext cx="1224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940360" y="391176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90F8-3265-4DE1-B09D-8224223F9971}" type="slidenum">
              <a:t>12</a:t>
            </a:fld>
          </a:p>
        </p:txBody>
      </p:sp>
    </p:spTree>
  </p:cSld>
  <p:transition>
    <p:random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563400"/>
            <a:ext cx="7437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nknown Variance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stimate the variance.  The estim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unbias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 the test statist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547640" y="1844640"/>
                <a:ext cx="25927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476360" y="3284640"/>
                <a:ext cx="1368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547640" y="4437000"/>
                <a:ext cx="15130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D2ED-A2A2-4362-BBF7-630F34768EF0}" type="slidenum">
              <a:t>13</a:t>
            </a:fld>
          </a:p>
        </p:txBody>
      </p:sp>
    </p:spTree>
  </p:cSld>
  <p:transition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88640"/>
            <a:ext cx="743760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no longer Gaussian.  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Gaussian,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follows a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-distribution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, with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-1 degrees of freedo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An 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496880" y="3398760"/>
                <a:ext cx="6912000" cy="19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is Gaussian,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obtained from measurements, </m:t>
                        </m:r>
                      </m:e>
                      <m:e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nd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Test the hypothesis</m:t>
                        </m:r>
                      </m:e>
                    </m:eqAr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t the significance level </m:t>
                    </m:r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7EED-868C-4524-9260-2CA64E67E261}" type="slidenum">
              <a:t>14</a:t>
            </a:fld>
          </a:p>
        </p:txBody>
      </p:sp>
    </p:spTree>
  </p:cSld>
  <p:transition>
    <p:random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71499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ble of acceptance intervals for t-distrib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824120" y="4869000"/>
                <a:ext cx="340812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ob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  <m:r>
                              <m:t xml:space="preserve">&lt;</m:t>
                            </m:r>
                            <m:f>
                              <m:num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num>
                              <m:den>
                                <m:f>
                                  <m:fPr>
                                    <m:type m:val="lin"/>
                                  </m:fPr>
                                  <m:num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acc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e>
                        </m:d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7</m:t>
                        </m:r>
                        <m:r>
                          <m:t xml:space="preserve">&lt;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&lt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,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is accept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0" name=""/>
          <p:cNvGraphicFramePr/>
          <p:nvPr/>
        </p:nvGraphicFramePr>
        <p:xfrm>
          <a:off x="755640" y="1254240"/>
          <a:ext cx="7561440" cy="3470040"/>
        </p:xfrm>
        <a:graphic>
          <a:graphicData uri="http://schemas.openxmlformats.org/drawingml/2006/table">
            <a:tbl>
              <a:tblPr/>
              <a:tblGrid>
                <a:gridCol w="1262160"/>
                <a:gridCol w="1006560"/>
                <a:gridCol w="1514160"/>
                <a:gridCol w="1257480"/>
                <a:gridCol w="1262160"/>
                <a:gridCol w="125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grees of Free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-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8599-D2AB-448D-B45B-E4626647A9D6}" type="slidenum">
              <a:t>15</a:t>
            </a:fld>
          </a:p>
        </p:txBody>
      </p:sp>
    </p:spTree>
  </p:cSld>
  <p:transition>
    <p:random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77680" y="-171720"/>
            <a:ext cx="71499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pplication in Feature Se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 here is to test against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zer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iffer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-μ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the respective means in </a:t>
            </a:r>
            <a:br>
              <a:rPr sz="2200"/>
            </a:b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, ω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a single fe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i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,…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s of a feature in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i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…,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f the s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eature in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in both class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nknown or no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test beco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668840" y="3789360"/>
                <a:ext cx="17287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92360" y="5219640"/>
                <a:ext cx="30240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μ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μ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47D2-35EB-4EC9-9AF4-147853B37C61}" type="slidenum">
              <a:t>16</a:t>
            </a:fld>
          </a:p>
        </p:txBody>
      </p:sp>
    </p:spTree>
  </p:cSld>
  <p:transition>
    <p:random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-27360"/>
            <a:ext cx="7918560" cy="53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=x-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vious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-μ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 the aver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Known Varianc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Def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,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one follows the procedure as bef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547640" y="2840040"/>
                <a:ext cx="31687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619280" y="4437000"/>
                <a:ext cx="23050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00B8-1DC4-4387-BDCE-5EE86B3A702D}" type="slidenum">
              <a:t>17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6312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lvl="1" marL="542160" indent="-2084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known Variance Cas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 the test statist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4120" indent="-16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-distribution with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grees of freedom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4120" indent="-1666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apply appropriate tables as bef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4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-2084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Exampl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The values of a feature in two classes a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: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5, 3.7, 3.9, 4.1, 3.4, 3.5, 4.1, 3.8, 3.6, 3.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: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2, 3.6, 3.1, 3.4, 3.0, 3.4, 2.8, 3.1, 3.3, 3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st if the mean values in the two classes differ significantly, at the significance level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636560" y="811080"/>
                <a:ext cx="4932360" cy="22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C40F-8AE2-4C2F-8999-E5708A3B28FF}" type="slidenum">
              <a:t>18</a:t>
            </a:fld>
          </a:p>
        </p:txBody>
      </p:sp>
    </p:spTree>
  </p:cSld>
  <p:transition>
    <p:random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918560" cy="54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ha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he table of the t-distribution with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18 degrees of freedom and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.05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e obtain        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10,2.10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sinc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q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25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outsi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ccepted and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feature is selec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849320" y="493560"/>
                <a:ext cx="29955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01</m:t>
                        </m:r>
                      </m:e>
                    </m:eqAr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sSubSup>
                      <m:e/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7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585800" y="2133720"/>
                <a:ext cx="213372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476360" y="4365720"/>
            <a:ext cx="1224000" cy="360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0392-5DF9-43C7-B14D-59712A26AF6E}" type="slidenum">
              <a:t>19</a:t>
            </a:fld>
          </a:p>
        </p:txBody>
      </p:sp>
    </p:spTree>
  </p:cSld>
  <p:transition>
    <p:random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640" y="367920"/>
            <a:ext cx="835344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iven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large enoug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lear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makes classe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ffer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makes patterns in the same clas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imil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mall enough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learn what makes patterns of the same clas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ffer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practice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has been reported to be a sensible choice for a number of ca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s been decided, choose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st informative fea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st: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Large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between class distance, 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Small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within class vari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 algn="just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276720" y="3141720"/>
                <a:ext cx="863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&lt;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Ν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94A5-378A-41AC-80B1-7C4A531E86C0}" type="slidenum">
              <a:t>2</a:t>
            </a:fld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lass Separability Meas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mphasis so far was on individually considered features. However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ch an approach cannot take into account existing correlations among the features. That is,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wo features may be rich in information, but if they are high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orrelated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w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eed not consider both of the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To this end, in order to search for possible correlations, we consider feature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joint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s elements of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vect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o this en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card poor in information features, by means of a statistical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e the maximum number,   , of features to be used. This is dictated by the specific problem (e.g., the number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available training patterns and the type of the classifier to be adopted)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003640" y="4221000"/>
                <a:ext cx="2304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0C1B-BF31-4326-B1B0-34C91640E6AB}" type="slidenum">
              <a:t>20</a:t>
            </a:fld>
          </a:p>
        </p:txBody>
      </p:sp>
    </p:spTree>
  </p:cSld>
  <p:transition>
    <p:random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bine remaining features to search for the “best”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mbin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o this en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different feature combinations to form the feature vector. Train the classifier, and choose the combination resulting in the best classifier perform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aj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sadvant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is approach is the high complexity. Also, local minima,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give misleading resul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opt a class separability measure and choose the best feature combination against this c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9E5E-B9FB-447B-A8BA-607D116D2D5E}" type="slidenum">
              <a:t>21</a:t>
            </a:fld>
          </a:p>
        </p:txBody>
      </p:sp>
    </p:spTree>
  </p:cSld>
  <p:transition>
    <p:random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lvl="1" marL="601560" indent="-23148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lass separability measure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et     be the current feature combination ve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-185040" algn="just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verg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o see the rationale behind this cost, consider the two – class case. Obviously, if on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ver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 algn="just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lue of                 is close to zero, then    should be 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 algn="just"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or feature combination. Defin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-1850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-1850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-1850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known as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iverg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an be used as a class separability meas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91000" y="158760"/>
                <a:ext cx="2890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556320" y="1716120"/>
                <a:ext cx="2890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595600" y="1616040"/>
                <a:ext cx="13748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103480" y="2781360"/>
                <a:ext cx="39290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t xml:space="preserve">d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089080" y="3979800"/>
                <a:ext cx="39560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t xml:space="preserve">d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052720" y="5059440"/>
                <a:ext cx="19000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F770-6B29-45A1-A3BB-8E94DD508386}" type="slidenum">
              <a:t>22</a:t>
            </a:fld>
          </a:p>
        </p:txBody>
      </p:sp>
    </p:spTree>
  </p:cSld>
  <p:transition>
    <p:random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3" marL="1536120" indent="-2192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multi-class case, defin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every pair of classes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verage diverg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defined 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propert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 algn="just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ar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indicative of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o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eature combin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535200" y="1011240"/>
                <a:ext cx="331344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951360" y="2565360"/>
                <a:ext cx="194292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CC03-95FE-4D3C-B206-4CE0C4F5E31F}" type="slidenum">
              <a:t>23</a:t>
            </a:fld>
          </a:p>
        </p:txBody>
      </p:sp>
    </p:spTree>
  </p:cSld>
  <p:transition>
    <p:random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-25704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catter Matrices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se are used as a measure of the way data are scattered in the respective feature sp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 algn="just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Within-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catter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umber of training samples in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ce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} is a measure of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verage vari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e featur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808440" y="1268280"/>
                <a:ext cx="172872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059280" y="2620800"/>
                <a:ext cx="32302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−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532320" y="3594240"/>
                <a:ext cx="21603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2008-AA49-46B3-B8EE-AC4C58F87DBE}" type="slidenum">
              <a:t>24</a:t>
            </a:fld>
          </a:p>
        </p:txBody>
      </p:sp>
    </p:spTree>
  </p:cSld>
  <p:transition>
    <p:random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2" marL="982800" indent="-196560" algn="just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Between-clas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catter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ce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} is a measure of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verage dist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e mean of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ach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the respectiv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lobal o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xture scat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turns out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703600" y="738360"/>
                <a:ext cx="393696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695760" y="1820880"/>
                <a:ext cx="18414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492360" y="4653000"/>
                <a:ext cx="35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−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Τ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4538-2BB0-4B12-8B69-8DEECD3F69B8}" type="slidenum">
              <a:t>25</a:t>
            </a:fld>
          </a:p>
        </p:txBody>
      </p:sp>
    </p:spTree>
  </p:cSld>
  <p:transition>
    <p:random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-24552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easures based on Scatter Matri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criteria are also possible, by using various combination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riteria  take high values for the cases whe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are clustered together within each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ans of the various classes are f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619280" y="620640"/>
                <a:ext cx="21160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rac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rac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609560" y="1751040"/>
                <a:ext cx="26164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620720" y="3141720"/>
                <a:ext cx="25876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ace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60D6-2369-46B2-8055-975A3B5B6119}" type="slidenum">
              <a:t>26</a:t>
            </a:fld>
          </a:p>
        </p:txBody>
      </p:sp>
    </p:spTree>
  </p:cSld>
  <p:transition>
    <p:random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7490160" cy="352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59CC-1696-4176-9429-046505F019F3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isher’s discriminant rati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I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mension and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w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quiprobable classes the determinants becom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nown a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Fischer’s rati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838680" y="1052640"/>
                <a:ext cx="1900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e>
                    </m:d>
                    <m:r>
                      <m:t xml:space="preserve">∝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863880" y="1622520"/>
                <a:ext cx="20908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r>
                      <m:t xml:space="preserve">∝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836880" y="2492280"/>
                <a:ext cx="21607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D3D6-C26F-4F70-B8B0-462B060D47FE}" type="slidenum">
              <a:t>28</a:t>
            </a:fld>
          </a:p>
        </p:txBody>
      </p:sp>
    </p:spTree>
  </p:cSld>
  <p:transition>
    <p:random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Ways to combine featu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ing to form all possible combinations of     features from an original set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lected features is a computationally hard task. Thus, a number of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optim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earching techniques have been deri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equential forward se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available features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. The procedure consists of the following step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opt a class separability criterion (could also be the error rate of the respective classifier). Compute its value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eatures considered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joint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iminate one feature and for each of the possible resulting combinations, that is 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compute the class reparability criterion valu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Select the best combination, say 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227640" y="649440"/>
                <a:ext cx="2304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C580-E85F-4A19-95EF-8B3B870557E6}" type="slidenum">
              <a:t>29</a:t>
            </a:fld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87280" y="0"/>
            <a:ext cx="6007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0AB9-2B8A-4E3D-86B1-D28BF80AE124}" type="slidenum">
              <a:t>3</a:t>
            </a:fld>
          </a:p>
        </p:txBody>
      </p:sp>
    </p:spTree>
  </p:cSld>
  <p:transition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he above selected feature vector eliminate one feature and for each of the resulting combinations,           ,            ,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ute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select the best combin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selection procedure shows how one can start from   features and end up with the “best”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s. Obviously, the choice i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uboptim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he number of required calculations 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contrast,  a full search  requi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508720" y="2381400"/>
                <a:ext cx="2300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84720" y="3032280"/>
                <a:ext cx="27716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ℓ</m:t>
                        </m:r>
                        <m:r>
                          <m:t xml:space="preserve">(</m:t>
                        </m:r>
                        <m:r>
                          <m:t xml:space="preserve">ℓ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273480" y="4294080"/>
                <a:ext cx="20890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894800" y="511200"/>
                <a:ext cx="10508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p>
                          <m:e/>
                          <m:sup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 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662120" y="812880"/>
                <a:ext cx="10526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p>
                          <m:e/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 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749680" y="793800"/>
                <a:ext cx="10015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 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987800" y="955800"/>
                <a:ext cx="2444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8748720" y="2060640"/>
                <a:ext cx="395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4EF3-C81A-4D3B-B7BF-9351647915EA}" type="slidenum">
              <a:t>30</a:t>
            </a:fld>
          </a:p>
        </p:txBody>
      </p:sp>
    </p:spTree>
  </p:cSld>
  <p:transition>
    <p:random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-25704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equential backward se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Here the reverse procedure is follow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ach feature. Select the “best” one, say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ll possibl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bination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.e.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 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 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ute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choose the best, say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ll possibl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binations of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.g.,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tc., compute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choose the best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procedure is repeated till the “best” vector wit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eatures has been formed. This is also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optim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chnique, requir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8459640" y="4076640"/>
                <a:ext cx="2304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635280" y="5013360"/>
                <a:ext cx="16876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m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ℓ</m:t>
                        </m:r>
                        <m:r>
                          <m:t xml:space="preserve">(</m:t>
                        </m:r>
                        <m:r>
                          <m:t xml:space="preserve">ℓ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A312-7ACE-4AB3-AD62-0FA3E79E7675}" type="slidenum">
              <a:t>31</a:t>
            </a:fld>
          </a:p>
        </p:txBody>
      </p:sp>
    </p:spTree>
  </p:cSld>
  <p:transition>
    <p:random/>
  </p:transition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7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loating Search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two procedures suffer from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esting eff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Once a bad choice has been done, there is no way to reconsider it in the following ste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floating search methods one is given the opportunity i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considering a previously discarded feature or to discard a feature that was previously chose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is still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optim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however it leads to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mprov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erformance, at the expense of complexi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D1D9-5749-42B4-9641-8D199099573C}" type="slidenum">
              <a:t>32</a:t>
            </a:fld>
          </a:p>
        </p:txBody>
      </p:sp>
    </p:spTree>
  </p:cSld>
  <p:transition>
    <p:random/>
  </p:transition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 algn="just">
              <a:spcBef>
                <a:spcPts val="550"/>
              </a:spcBef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Tahoma"/>
              </a:rPr>
              <a:t>Remark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sides suboptimal techniques, some optimal searching techniques can also be used, provided that the optimizing cost has certain properties, e.g., monotoni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using a class separability measure (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ilter techniqu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or using directly the classifier (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wrapper techniqu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 ca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odif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cost function of the classifier appropriately, so that to perform feature selection and classifier design in a single step (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mbedd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choice of the separability measure a multiplicity of costs have been proposed, including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formation theore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s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095-AC0C-4108-A2C3-29C817BC61DF}" type="slidenum">
              <a:t>33</a:t>
            </a:fld>
          </a:p>
        </p:txBody>
      </p:sp>
    </p:spTree>
  </p:cSld>
  <p:transition>
    <p:random/>
  </p:transition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ints from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Generalization Theor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ization theory aims at providing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gener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ounds that relate the error performance of a classifier with the number of training points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 one hand, and som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lassifier dependent paramete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on the other. Up to now, the classifier dependent parameters that we considered were the number of it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ree paramete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mensiona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  , of the subspace, in which the classifier operates. (  also affects the number of free parameter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i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the classifier be a binary one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en-US" sz="2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e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all function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can be realized by the adopted classifier (e.g., changing the synapses of a given neural network different functions are implemented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148360" y="2317680"/>
                <a:ext cx="230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067280" y="2637000"/>
                <a:ext cx="2300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635280" y="4508640"/>
                <a:ext cx="20462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ℓ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3B97-F227-418B-8FC8-BB079C35DA42}" type="slidenum">
              <a:t>34</a:t>
            </a:fld>
          </a:p>
        </p:txBody>
      </p:sp>
    </p:spTree>
  </p:cSld>
  <p:transition>
    <p:random/>
  </p:transition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3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8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hatter coefficien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,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e clas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defined as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maximum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number of dichotomie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oints that can be formed by the functions in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ximum possi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 of dichotomies is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However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NOT ALL dichotomi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realized by the set of functions in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Vapnik – Chernovenkis (VC) dimension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a class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argest integ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whic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,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2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,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2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C dimension i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infini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VC is the integer for which the class of function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achiev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ssible dichotomies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easily seen that the VC dimension of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ingle perceptr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operating in the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ℓ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-dimensio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pace, is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ℓ+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8244000" y="3213000"/>
                <a:ext cx="4935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N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080D-51E7-4A5D-8619-DA74DB12AEA2}" type="slidenum">
              <a:t>35</a:t>
            </a:fld>
          </a:p>
        </p:txBody>
      </p:sp>
    </p:spTree>
  </p:cSld>
  <p:transition>
    <p:random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8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4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4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3" marL="1440000" indent="-20556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can be shown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VC dimension of the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the shatter coefficient i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ither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the maximum possible number of dichotomies) 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t is upper bounded, as suggested by the above inequa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words, for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finite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large enoug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shatter coefficient is bounded by a polynomial grow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 that in order to have a polynomial growth of the shatter coefficient,</a:t>
            </a:r>
            <a:r>
              <a:rPr b="0" lang="en-US" sz="20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ust be larger than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mens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 algn="just">
              <a:spcBef>
                <a:spcPts val="550"/>
              </a:spcBef>
              <a:buClr>
                <a:srgbClr val="ff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dimension can be considered as an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intrinsic capacity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of the classifier, and, as we will soon see, only if the number of training vectors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exceeds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this number sufficiently, we can expect good generalization perform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708360" y="549360"/>
                <a:ext cx="2521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8530-65B1-4E5B-949C-F803F7455711}" type="slidenum">
              <a:t>36</a:t>
            </a:fld>
          </a:p>
        </p:txBody>
      </p:sp>
    </p:spTree>
  </p:cSld>
  <p:transition>
    <p:random/>
  </p:transition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4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9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   dimensio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y or may 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 related to the dimension    and the number of free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ceptr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tilayer perceptron with hard limiting activation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     is the total number of hidden layer nodes,    the total number of nodes, and      the total number of weigh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 be  a training data sample  and assume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240000" y="2111400"/>
                <a:ext cx="37432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h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ℓ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797200" y="3257640"/>
                <a:ext cx="336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h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459640" y="3284640"/>
                <a:ext cx="330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867280" y="3645000"/>
                <a:ext cx="355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136600" y="203040"/>
                <a:ext cx="3445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475080" y="922320"/>
                <a:ext cx="1216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ℓ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798640" y="565200"/>
                <a:ext cx="2383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398680" y="4697280"/>
                <a:ext cx="3841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635280" y="5445000"/>
                <a:ext cx="232740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 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8C3D-8387-463A-969C-05E46F38A985}" type="slidenum">
              <a:t>37</a:t>
            </a:fld>
          </a:p>
        </p:txBody>
      </p:sp>
    </p:spTree>
  </p:cSld>
  <p:transition>
    <p:random/>
  </p:transition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5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8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5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also a hyperplane such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.e.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constraints we met in the SVM formulation). The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by controlling the constan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     of the linear classifier can be less than   .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n other words,    can be controlled independently of the dimension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, by minimizing       in the SVM, one attempts to keep      as small as possible.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oreover, one can achieve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finite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    dimension,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even for infinite dimensional spaces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is is an explanation of the potential for good generalization performance of the SVM’s, as this is readily deduced from the following boun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0" algn="just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427640" y="620640"/>
                <a:ext cx="9745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067280" y="1341360"/>
                <a:ext cx="168408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211640" y="2492280"/>
                <a:ext cx="1390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≤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ℓ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093080" y="2955960"/>
                <a:ext cx="320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900760" y="3300480"/>
                <a:ext cx="241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8237520" y="3316320"/>
                <a:ext cx="311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00720" y="3933720"/>
                <a:ext cx="5284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627280" y="4397400"/>
                <a:ext cx="311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780000" y="4724280"/>
                <a:ext cx="311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9463-178B-4792-AB1F-819680C011C7}" type="slidenum">
              <a:t>38</a:t>
            </a:fld>
          </a:p>
        </p:txBody>
      </p:sp>
    </p:spTree>
  </p:cSld>
  <p:transition>
    <p:random/>
  </p:transition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4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3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1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Generalization Perform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     be the error rate of classifie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ased on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raining poi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lso known a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empirical 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   be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rue error proba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lso known a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generalization 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whe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confronted with dat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ut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finite training se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be the minimum error probability that can be attained over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ALL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nctions in the set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908000" y="620640"/>
                <a:ext cx="863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925640" y="1716120"/>
                <a:ext cx="8571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052720" y="3228840"/>
                <a:ext cx="4633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551A-C7FD-42E1-89DB-E48FE25B4241}" type="slidenum">
              <a:t>39</a:t>
            </a:fld>
          </a:p>
        </p:txBody>
      </p:sp>
    </p:spTree>
  </p:cSld>
  <p:transition>
    <p:random/>
  </p:transition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6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4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280360" cy="53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asic philosop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card individual features with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o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formation cont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maining information rich features are examined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joint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s vect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eature Selection based on statistical Hypothesis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:  For each individual feature, find whether the values, which the feature takes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different classes,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iffer significantl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answ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s differ significant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s do not differ significant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f they do not differ significantly reject feature from subsequent sta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ypothesis Testing Bas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692360" y="4005360"/>
                <a:ext cx="13683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5471-85D9-4AEF-84E8-CD00A26CE118}" type="slidenum">
              <a:t>4</a:t>
            </a:fld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be the function resulting by minimizing the empirical (over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finite train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et) error func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can be shown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king into account that for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fini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dimension,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growth of              is only polynomi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 above bounds tell us that for a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larg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-2214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close to</a:t>
            </a:r>
            <a:r>
              <a:rPr b="0" lang="en-US" sz="2000" spc="-1" strike="noStrike">
                <a:solidFill>
                  <a:srgbClr val="ff33cc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ith high probabil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-2214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close to      , with high probabil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987560" y="1874880"/>
                <a:ext cx="66657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{"/>
                        <m:endChr m:val="}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f</m:t>
                            </m:r>
                            <m:r>
                              <m:t xml:space="preserve">∈</m:t>
                            </m:r>
                            <m:r>
                              <m:t xml:space="preserve">F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ε</m:t>
                        </m:r>
                      </m:e>
                    </m:d>
                    <m:r>
                      <m:t xml:space="preserve">≤</m:t>
                    </m:r>
                    <m:r>
                      <m:t xml:space="preserve">8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N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481120" y="2681280"/>
                <a:ext cx="55818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ε</m:t>
                        </m:r>
                      </m:e>
                    </m:d>
                    <m:r>
                      <m:t xml:space="preserve">≤</m:t>
                    </m:r>
                    <m:r>
                      <m:t xml:space="preserve">8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N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279520" y="4813200"/>
                <a:ext cx="84456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338720" y="4797360"/>
                <a:ext cx="7999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448160" y="5157720"/>
                <a:ext cx="43344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340000" y="5157720"/>
                <a:ext cx="8874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/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516720" y="3757680"/>
                <a:ext cx="311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521160" y="4116240"/>
                <a:ext cx="11332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924200" y="204840"/>
                <a:ext cx="3254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1FDD-A94D-4E13-B17E-6279426E3905}" type="slidenum">
              <a:t>40</a:t>
            </a:fld>
          </a:p>
        </p:txBody>
      </p:sp>
    </p:spTree>
  </p:cSld>
  <p:transition>
    <p:random/>
  </p:transition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0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5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3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1" dur="5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2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3" dur="5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47560" y="4052880"/>
            <a:ext cx="75088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,               constants.  In word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                 the performance of the classifier i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uaranteed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igh probability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be close to the optimal classifier in the clas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            is known as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ample complexit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ome more useful bou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inimum number of points,          , that guarantees, with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igh probability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good generalization error performance is given b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012000" y="476280"/>
                <a:ext cx="7920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556000" y="1557360"/>
                <a:ext cx="47005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924360" y="2708280"/>
                <a:ext cx="14637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203640" y="3357720"/>
                <a:ext cx="2854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ε</m:t>
                        </m:r>
                      </m:e>
                    </m:d>
                    <m:r>
                      <m:t xml:space="preserve">≤</m:t>
                    </m:r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132000" y="4076640"/>
                <a:ext cx="935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076720" y="4846680"/>
                <a:ext cx="960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308720" y="4037040"/>
                <a:ext cx="13604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2A2B-62D7-48DC-B6BA-7D3733C5F7CC}" type="slidenum">
              <a:t>41</a:t>
            </a:fld>
          </a:p>
        </p:txBody>
      </p:sp>
    </p:spTree>
  </p:cSld>
  <p:transition>
    <p:random/>
  </p:transition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9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8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3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2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5" dur="500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3" marL="1504080" indent="-214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a probability of at least          the following bound hold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Rema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bserve that all the bounds given so far a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mension fr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tribution fr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45080" y="236520"/>
                <a:ext cx="650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597120" y="932040"/>
                <a:ext cx="31021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≤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e</m:t>
                            </m:r>
                          </m:sub>
                        </m:sSub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768760" y="2179800"/>
                <a:ext cx="4614840" cy="15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N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c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ρ</m:t>
                                        </m:r>
                                      </m:num>
                                      <m:den>
                                        <m:r>
                                          <m:t xml:space="preserve">4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C81D-CA92-4000-92C5-FFA838B4B446}" type="slidenum">
              <a:t>42</a:t>
            </a:fld>
          </a:p>
        </p:txBody>
      </p:sp>
    </p:spTree>
  </p:cSld>
  <p:transition>
    <p:random/>
  </p:transition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4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5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3" dur="50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6" dur="50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9" dur="50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3640" y="169560"/>
            <a:ext cx="85690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odel Complexity vs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sue has already been touched in the form of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verfitt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neural networks modeling and in the form of bias-variance dilemma. A different perspective of the issue is dealt bel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tructural Risk Minimization (SR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be he Bayesian error probability for a given tas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   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 the true (generalization) error of an optimally design classifier   , from class     , given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ini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raining se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the minimum error attainable i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class       i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m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n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ir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rm i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xp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b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m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0" lang="en-US" sz="2200" spc="-1" strike="noStrike">
                <a:solidFill>
                  <a:srgbClr val="33cc33"/>
                </a:solidFill>
                <a:latin typeface="Tahoma"/>
              </a:rPr>
              <a:t>seco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rm is </a:t>
            </a:r>
            <a:r>
              <a:rPr b="0" lang="en-US" sz="2200" spc="-1" strike="noStrike">
                <a:solidFill>
                  <a:srgbClr val="33cc33"/>
                </a:solidFill>
                <a:latin typeface="Tahoma"/>
              </a:rPr>
              <a:t>exp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be </a:t>
            </a:r>
            <a:r>
              <a:rPr b="0" lang="en-US" sz="2200" spc="-1" strike="noStrike">
                <a:solidFill>
                  <a:srgbClr val="33cc33"/>
                </a:solidFill>
                <a:latin typeface="Tahoma"/>
              </a:rPr>
              <a:t>lar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he opposite is true when the class    is lar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979640" y="2652840"/>
                <a:ext cx="3492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035080" y="3044880"/>
                <a:ext cx="8384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/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675320" y="3349800"/>
                <a:ext cx="40464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516720" y="343692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619280" y="4076640"/>
                <a:ext cx="4191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/>
                    </m:sSup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524480"/>
                <a:ext cx="3016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219800" y="5645160"/>
                <a:ext cx="2858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532320" y="498168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308640" y="4572000"/>
                <a:ext cx="2890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1610-5768-4CB3-AB01-DAFC9B77A6EB}" type="slidenum">
              <a:t>43</a:t>
            </a:fld>
          </a:p>
        </p:txBody>
      </p:sp>
    </p:spTree>
  </p:cSld>
  <p:transition>
    <p:random/>
  </p:transition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6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1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9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3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6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0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              be a sequence of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nes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increasing, yet finite     dimens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, le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ac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lass of function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1, 2, …, compute the optimum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,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ith respect to the empirical error. Then from all these classifiers choose the one than minimizes, over al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 upper bound i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81080" y="399960"/>
                <a:ext cx="15591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567240" y="793800"/>
                <a:ext cx="20001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⊂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6360" y="1268280"/>
                <a:ext cx="2811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589200" y="1660680"/>
                <a:ext cx="21812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349800" y="2376360"/>
                <a:ext cx="27349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e>
                      <m:lim>
                        <m:r>
                          <m:t xml:space="preserve">f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p>
                      </m:lim>
                    </m:limLow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916360" y="4545000"/>
                <a:ext cx="39621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Ν</m:t>
                        </m:r>
                        <m:r>
                          <m:t xml:space="preserve">,</m:t>
                        </m:r>
                        <m:r>
                          <m:t xml:space="preserve">ι</m:t>
                        </m:r>
                      </m:sub>
                      <m:sup/>
                    </m:sSubSup>
                    <m:r>
                      <m:t xml:space="preserve">)</m:t>
                    </m:r>
                    <m:r>
                      <m:t xml:space="preserve">≤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e</m:t>
                            </m:r>
                          </m:sub>
                        </m:sSub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Ν</m:t>
                        </m:r>
                        <m:r>
                          <m:t xml:space="preserve">,</m:t>
                        </m:r>
                        <m:r>
                          <m:t xml:space="preserve">ι</m:t>
                        </m:r>
                      </m:sub>
                      <m:sup/>
                    </m:sSub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556000" y="5589720"/>
                <a:ext cx="458784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i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Ν</m:t>
                            </m:r>
                            <m:r>
                              <m:t xml:space="preserve">,</m:t>
                            </m:r>
                            <m:r>
                              <m:t xml:space="preserve">ι</m:t>
                            </m:r>
                          </m:sub>
                          <m:sup/>
                        </m:sSub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FF80-2EAF-443F-870E-44C828C7C872}" type="slidenum">
              <a:t>44</a:t>
            </a:fld>
          </a:p>
        </p:txBody>
      </p:sp>
    </p:spTree>
  </p:cSld>
  <p:transition>
    <p:random/>
  </p:transition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2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3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1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9" dur="500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908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2" marL="994320" indent="-19872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, a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 algn="ctr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ter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minimized bound is  a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omplexity penalty te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If the classifier model i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mp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penalty term i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ut the empirical error term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b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ar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pposi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rue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mple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del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RM criterion aims at achieving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best trade-of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erformance and complex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708280" y="506520"/>
                <a:ext cx="82404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780000" y="907920"/>
                <a:ext cx="1881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140360" y="1773360"/>
                <a:ext cx="11649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429080" y="4076640"/>
                <a:ext cx="1079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e</m:t>
                            </m:r>
                          </m:sub>
                        </m:sSub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Ν</m:t>
                        </m:r>
                        <m:r>
                          <m:t xml:space="preserve">,</m:t>
                        </m:r>
                        <m:r>
                          <m:t xml:space="preserve">ι</m:t>
                        </m:r>
                      </m:sub>
                      <m:sup/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27C3-7AB6-4723-A5E9-3152D4EB7C95}" type="slidenum">
              <a:t>45</a:t>
            </a:fld>
          </a:p>
        </p:txBody>
      </p:sp>
    </p:spTree>
  </p:cSld>
  <p:transition>
    <p:random/>
  </p:transition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9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2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8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1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6" dur="500"/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23640" y="169560"/>
            <a:ext cx="85690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ayesian Information Criterion (BI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   the size of the training set,     th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e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unknown parameters of the classifier,  th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imensiona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    , and    runs over all possibl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ode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IC criterion chooses the model by minimiz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the log-likelihood computed at the ML estimate      , and it is the performance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the model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omplexity te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kaike Information Criter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635120" y="636480"/>
                <a:ext cx="3222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940360" y="620640"/>
                <a:ext cx="390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7724880" y="923760"/>
                <a:ext cx="41256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708360" y="1268280"/>
                <a:ext cx="390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229360" y="1309680"/>
                <a:ext cx="35856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059280" y="2708280"/>
                <a:ext cx="37447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</m:ba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124000" y="3348000"/>
                <a:ext cx="7016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</m:ba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195720" y="3716280"/>
                <a:ext cx="365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124080" y="5430960"/>
                <a:ext cx="3237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I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</m:ba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050920" y="4076640"/>
                <a:ext cx="1079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C7BC-4C2D-4097-BB55-3E304D3F4AEB}" type="slidenum">
              <a:t>46</a:t>
            </a:fld>
          </a:p>
        </p:txBody>
      </p:sp>
    </p:spTree>
  </p:cSld>
  <p:transition>
    <p:random/>
  </p:transition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8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8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8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1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5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31520" y="115560"/>
            <a:ext cx="7296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79240" indent="-222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ep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asuremen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know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 a function of the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est statistic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tha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easily parameterized in terms of </a:t>
            </a:r>
            <a:r>
              <a:rPr b="0" i="1" lang="el-GR" sz="2200" spc="-1" strike="noStrike">
                <a:solidFill>
                  <a:srgbClr val="ff0000"/>
                </a:solidFill>
                <a:latin typeface="Times New Roman"/>
              </a:rPr>
              <a:t>θ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 an interval, where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s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igh probability to lie under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H</a:t>
            </a:r>
            <a:r>
              <a:rPr b="0" i="1" lang="en-US" sz="2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, i.e.,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2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he-IL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׀</a:t>
            </a:r>
            <a:r>
              <a:rPr b="0" i="1" lang="el-GR" sz="2200" spc="-1" strike="noStrike">
                <a:solidFill>
                  <a:srgbClr val="3333cc"/>
                </a:solidFill>
                <a:latin typeface="Times New Roman"/>
              </a:rPr>
              <a:t>θ</a:t>
            </a:r>
            <a:r>
              <a:rPr b="0" i="1" lang="el-GR" sz="2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D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 the complement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ance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val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itical Interv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resulting from </a:t>
            </a:r>
            <a:br>
              <a:rPr sz="2200"/>
            </a:b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ies in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e accept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otherwise we reject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221000" y="547560"/>
                <a:ext cx="156852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462040" y="1989000"/>
                <a:ext cx="24894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046320" y="2589120"/>
                <a:ext cx="11066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;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3059280" y="2660760"/>
            <a:ext cx="115236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4581360"/>
            <a:ext cx="216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54072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79640" y="5229360"/>
            <a:ext cx="19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5084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414680" y="5784840"/>
                <a:ext cx="15368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D846-B32A-427A-B5BA-78A28FB125E8}" type="slidenum">
              <a:t>5</a:t>
            </a:fld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31880" y="404640"/>
            <a:ext cx="7918560" cy="626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ability of an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preselected and it is known as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ignificance leve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146400" y="981000"/>
                <a:ext cx="25639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∈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|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076480" y="1905120"/>
            <a:ext cx="5591160" cy="2531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27760" y="3500280"/>
            <a:ext cx="7682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1-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B531-2570-45C7-9A78-6BB34DEA81D1}" type="slidenum">
              <a:t>6</a:t>
            </a:fld>
          </a:p>
        </p:txBody>
      </p:sp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31880" y="115560"/>
            <a:ext cx="791856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:  The known variance c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 a random variable and the experimental samples,                 , are assumed mutually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depend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Also l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the sample mean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also a random variable with mean value</a:t>
            </a:r>
            <a:br>
              <a:rPr sz="2200"/>
            </a:br>
            <a:br>
              <a:rPr sz="2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it is a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Unbiased Estima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651040" y="1141560"/>
                <a:ext cx="1490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92360" y="1989000"/>
                <a:ext cx="20876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835280" y="3429000"/>
                <a:ext cx="151272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763640" y="4653000"/>
                <a:ext cx="30243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5F9B-A9F4-445D-9DCC-1208FDBB4D73}" type="slidenum">
              <a:t>7</a:t>
            </a:fld>
          </a:p>
        </p:txBody>
      </p:sp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440" y="69480"/>
            <a:ext cx="71499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ri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e to independ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it i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symptotically Effici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ypothesis te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st Statistic: Define the var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251160" y="38160"/>
                <a:ext cx="461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547640" y="722160"/>
                <a:ext cx="705672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E</m:t>
                            </m:r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]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547640" y="2781360"/>
                <a:ext cx="12240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547640" y="4653000"/>
                <a:ext cx="1513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≠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547640" y="6002280"/>
                <a:ext cx="13687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3780000" y="0"/>
            <a:ext cx="527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CEB6-D2C3-4775-AD62-034565B353C1}" type="slidenum">
              <a:t>8</a:t>
            </a:fld>
          </a:p>
        </p:txBody>
      </p:sp>
    </p:spTree>
  </p:cSld>
  <p:transition>
    <p:random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440" y="1071720"/>
            <a:ext cx="7535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entral limit theorem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under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i="1" lang="en-US" sz="2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us, under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i="1" lang="en-US" sz="2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523960" y="1535040"/>
                <a:ext cx="38484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484360" y="3017880"/>
                <a:ext cx="38894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q</m:t>
                    </m:r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C6DA-999C-4977-9645-9AF6396ECE9C}" type="slidenum">
              <a:t>9</a:t>
            </a:fld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8:14:25Z</dcterms:created>
  <dc:creator>Jim</dc:creator>
  <dc:description/>
  <dc:language>en-US</dc:language>
  <cp:lastModifiedBy>ST</cp:lastModifiedBy>
  <dcterms:modified xsi:type="dcterms:W3CDTF">2006-09-01T15:48:50Z</dcterms:modified>
  <cp:revision>901</cp:revision>
  <dc:subject/>
  <dc:title>PowerPoint Presentation</dc:title>
</cp:coreProperties>
</file>