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DC0-EA26-48C0-857E-A700062E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52E-0EC4-457D-B846-DCD71754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78F-FD36-41B5-A766-2F06AFB6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774-F429-4400-8C4F-C45D0173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4CC5-5496-4354-B7A9-5AA57D41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646-D013-4457-A37D-2EC114EC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F3C7-4614-4983-B019-6B82FBC5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BDFC-3B22-4F4A-8238-B7A649FD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845-F445-43A8-B45A-E5511FE6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3D24-5BA0-4116-9BAD-94F299A5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B631-3EBA-4F46-BE7F-94FB0678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75D-22FE-44BC-AE1E-1110D36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6F7-BDAE-447D-B386-7BD3FD7F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B0B8-3FF8-42F1-B93D-5E53C99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5D9D-90BF-430E-AF7C-C5A2C06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5D77-E604-4B13-9923-329A7486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093B-479D-4E89-8C2F-631A0100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222-9036-4374-ACBC-2644A001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4ED-FBF4-4C11-8F6C-587AC3D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555-C116-493C-8179-36ADE3E7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2D3-7E95-432E-BCBA-05D279B1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6A2-0A8E-4F83-9207-271E732B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46F-20CE-4B7D-8DD7-49B5417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06E-AF5B-4432-9106-3E347872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B442-D968-4C1E-AD6D-C740CFE0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E9EF-7E59-48E2-BBA9-773693280ED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349200"/>
            <a:ext cx="753588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is to estimate the error probability of the designed classification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rror Counting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class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data points in class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r tes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umber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poi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robability error for clas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classifier is assumed to have been designed us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other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ata 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that the feature vectors in the test data set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babi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from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ing in error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08000" y="2708280"/>
                <a:ext cx="1225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03280" y="5300640"/>
                <a:ext cx="7135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rongly classifie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2242440" y="115920"/>
            <a:ext cx="46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YSTEM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88000" y="2276640"/>
                <a:ext cx="325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8000" y="2276640"/>
                <a:ext cx="34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08000" y="1989000"/>
                <a:ext cx="328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E039-92CA-4DA7-A856-11F552E848B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246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’s are not known, estim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maximizing the above binomial distribution.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count the errors and divide by the total number of test points in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probability of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1557360"/>
                <a:ext cx="1150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66920" y="4581360"/>
                <a:ext cx="19465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69EB-9219-448B-81CD-3A946D5EC88A}" type="slidenum">
              <a:t>2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-3877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stical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 the estimator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bias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ut only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symptotically consistent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Hence for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mall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, may not be rel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heoretically derived estimate of a sufficient numb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test data set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25800" y="681120"/>
                <a:ext cx="15062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0920" y="1311120"/>
                <a:ext cx="33847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us, </m:t>
                    </m:r>
                    <m:r>
                      <m:t xml:space="preserve">E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050920" y="2212920"/>
                <a:ext cx="2087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0920" y="2781360"/>
                <a:ext cx="3024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780000" y="5445000"/>
                <a:ext cx="1152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23880" y="6308640"/>
                <a:ext cx="6096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us, for </m:t>
                    </m:r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For </m:t>
                    </m:r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BACA-8CF2-4911-B59D-967F41666B68}" type="slidenum">
              <a:t>3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31880" y="333000"/>
            <a:ext cx="7439040" cy="61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iting the finite size of the dat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substitution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same data for training and testing.  I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derestimates the error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e estimate improves for la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large       rat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oldou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Giv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it in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raining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est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 Less data both for training and tes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284720" y="2205000"/>
                <a:ext cx="333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F818-317F-42DC-823A-C6ADDC123E24}" type="slidenum">
              <a:t>4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31880" y="641520"/>
            <a:ext cx="7439040" cy="61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ve-one-out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one sample out of the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lassifier using the remaining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s.  Test the classifier using the selected sample.  Count an error if it is misclassif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the above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cluding a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 each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the error probability by averaging the counted erro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04B-0A38-49F1-8CF3-269667091504}" type="slidenum">
              <a:t>5</a:t>
            </a:fld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31880" y="568440"/>
            <a:ext cx="7439040" cy="61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all data for testing and 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res independence between test and training samp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 in computations hig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nts of it exclu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each time, to reduce 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61AD-15E8-4674-932F-746732367570}" type="slidenum">
              <a:t>6</a:t>
            </a:fld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9:08:49Z</dcterms:created>
  <dc:creator>tyiannak</dc:creator>
  <dc:description/>
  <dc:language>en-US</dc:language>
  <cp:lastModifiedBy>ST</cp:lastModifiedBy>
  <dcterms:modified xsi:type="dcterms:W3CDTF">2006-08-31T12:45:48Z</dcterms:modified>
  <cp:revision>13</cp:revision>
  <dc:subject/>
  <dc:title>Slide 1</dc:title>
</cp:coreProperties>
</file>