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84FE-A4F6-480B-B7C9-AFDC718A0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5954-3936-4CFF-AF2C-0C591880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929A-0290-4243-9251-3F74FD7D2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F303-DB94-49EC-B93A-51A6EED8B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7BA5-50B2-41D3-8D24-01A1B531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9182-54B2-4609-AE44-C3540D58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4608-FCAC-4E44-A840-23A1B429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AF67-634A-4E00-BFEC-1D63C7B8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20CC-2AC1-487A-89F8-5323BB09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32C2-4F83-4B91-AF3B-5A912A96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84D4-7824-4D38-A6B5-D07DB9B5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72D7-7F8A-451C-9302-266B3EFF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340B-E70A-40CC-BC48-C9C8DECBA8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440" y="512280"/>
            <a:ext cx="7535880" cy="55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blem: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ider a two class task with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763640" y="1614600"/>
                <a:ext cx="27370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835280" y="2997360"/>
                <a:ext cx="4321080" cy="12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ssume 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on the decision hyperplane: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⇒</m:t>
                        </m:r>
                      </m:e>
                      <m:e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∀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2075040" y="243000"/>
            <a:ext cx="499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LINEAR CLASS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3ADA-F105-4C02-8A4A-FC76492B7913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452600" y="603360"/>
            <a:ext cx="6143760" cy="3004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824760" y="11592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percept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484360" y="3700440"/>
                <a:ext cx="42116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'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    synapses or synaptic weights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threshol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1644480" y="5403960"/>
            <a:ext cx="652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s 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learning machin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at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lear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rom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raining vecto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ia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perceptron algorith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69520" y="5022720"/>
            <a:ext cx="620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network is called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perceptron or neur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2C6E-2CE2-4159-B78C-236A95B2B984}" type="slidenum">
              <a:t>10</a:t>
            </a:fld>
          </a:p>
        </p:txBody>
      </p:sp>
    </p:spTree>
  </p:cSld>
  <p:transition>
    <p:random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440" y="-387360"/>
            <a:ext cx="753588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t some stag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perceptron algorithm results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rresponding hyperplane 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979640" y="2536920"/>
            <a:ext cx="5834160" cy="3122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386160" y="880920"/>
                <a:ext cx="30924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348000" y="1289160"/>
                <a:ext cx="22320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124000" y="5748480"/>
                <a:ext cx="540396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5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6102000" y="3218040"/>
            <a:ext cx="15390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ρ=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0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879A-4BFF-48F3-8C6C-EE62BB89DCD8}" type="slidenum">
              <a:t>11</a:t>
            </a:fld>
          </a:p>
        </p:txBody>
      </p:sp>
    </p:spTree>
  </p:cSld>
  <p:transition>
    <p:random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43920"/>
            <a:ext cx="8051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Least Squares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classes are linearly separable, the perceptron output results i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classes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linearly separable, we shall compute the we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that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iffere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twe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actual output of the classifier,          , an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desired outputs, e.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b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MA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700360" y="895320"/>
                <a:ext cx="36036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987640" y="1760400"/>
                <a:ext cx="15843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4529160" y="2706840"/>
                <a:ext cx="85680" cy="16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300720" y="2746440"/>
                <a:ext cx="57636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340000" y="3789360"/>
                <a:ext cx="129708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if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if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F583-D2D5-4C3D-B09B-B84C0ED2C247}" type="slidenum">
              <a:t>12</a:t>
            </a:fld>
          </a:p>
        </p:txBody>
      </p:sp>
    </p:spTree>
  </p:cSld>
  <p:transition>
    <p:random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50920" y="755640"/>
            <a:ext cx="80517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MA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in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ean squar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rror sense, means to choose        so that the cost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529160" y="3417840"/>
                <a:ext cx="8568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8432640" y="1116000"/>
                <a:ext cx="3556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619280" y="2268360"/>
                <a:ext cx="475128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J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is minimum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</m:ba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lim>
                        </m:limLow>
                        <m:r>
                          <m:t xml:space="preserve">J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  the corresponding desired respons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CB4E-1271-4335-A89F-96CEF5F0E256}" type="slidenum">
              <a:t>13</a:t>
            </a:fld>
          </a:p>
        </p:txBody>
      </p:sp>
    </p:spTree>
  </p:cSld>
  <p:transition>
    <p:random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440" y="44280"/>
            <a:ext cx="8134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lvl="1" marL="564480" indent="-217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nimiz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0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0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0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0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0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0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0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autocorrelatio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0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rosscorrel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vect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0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606680" y="476280"/>
                <a:ext cx="5356080" cy="28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J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w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o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 results in</m:t>
                        </m:r>
                        <m:r>
                          <m:t xml:space="preserve">: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den>
                        </m:f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E</m:t>
                        </m:r>
                        <m:r>
                          <m:t xml:space="preserve">[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⇒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[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]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[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y</m:t>
                        </m:r>
                        <m:r>
                          <m:t xml:space="preserve">]</m:t>
                        </m:r>
                        <m:r>
                          <m:t xml:space="preserve">⇒</m:t>
                        </m:r>
                      </m:e>
                      <m:e/>
                      <m:e>
                        <m:bar>
                          <m:barPr>
                            <m:pos m:val="bot"/>
                          </m:bar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</m:ba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E</m:t>
                        </m:r>
                        <m:r>
                          <m:t xml:space="preserve">[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y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3924360" y="2975040"/>
            <a:ext cx="1871640" cy="358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692360" y="4005360"/>
                <a:ext cx="525600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E</m:t>
                    </m:r>
                    <m:r>
                      <m:t xml:space="preserve">[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E</m:t>
                              </m:r>
                              <m:r>
                                <m:t xml:space="preserve">[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]</m:t>
                              </m:r>
                            </m:e>
                            <m:e>
                              <m:r>
                                <m:t xml:space="preserve">E</m:t>
                              </m:r>
                              <m:r>
                                <m:t xml:space="preserve">[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]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E</m:t>
                              </m:r>
                              <m:r>
                                <m:t xml:space="preserve">[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]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E</m:t>
                              </m:r>
                              <m:r>
                                <m:t xml:space="preserve">[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]</m:t>
                              </m:r>
                            </m:e>
                            <m:e>
                              <m:r>
                                <m:t xml:space="preserve">E</m:t>
                              </m:r>
                              <m:r>
                                <m:t xml:space="preserve">[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]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E</m:t>
                              </m:r>
                              <m:r>
                                <m:t xml:space="preserve">[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]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195640" y="5316480"/>
                <a:ext cx="208908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[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y</m:t>
                    </m:r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E</m:t>
                              </m:r>
                              <m:r>
                                <m:t xml:space="preserve">[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y</m:t>
                              </m:r>
                              <m:r>
                                <m:t xml:space="preserve">]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E</m:t>
                              </m:r>
                              <m:r>
                                <m:t xml:space="preserve">[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y</m:t>
                              </m:r>
                              <m:r>
                                <m:t xml:space="preserve">]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A43A-7E1C-46E6-B1E5-45B90BFACC71}" type="slidenum">
              <a:t>14</a:t>
            </a:fld>
          </a:p>
        </p:txBody>
      </p:sp>
    </p:spTree>
  </p:cSld>
  <p:transition>
    <p:random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6407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lvl="1" marL="579240" indent="-222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lti-class generaliz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goal is to compu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linear discriminant functi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ording to the MS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opt as desired responses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he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490920" y="930240"/>
                <a:ext cx="19447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321000" y="2674800"/>
                <a:ext cx="231624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if  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otherwi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102120" y="4149720"/>
                <a:ext cx="25794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057480" y="5337000"/>
                <a:ext cx="26859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81F3-2A9F-4D33-A722-F980E1D76B39}" type="slidenum">
              <a:t>15</a:t>
            </a:fld>
          </a:p>
        </p:txBody>
      </p:sp>
    </p:spTree>
  </p:cSld>
  <p:transition>
    <p:random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6407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goal is to compute   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above is equivalent to a numb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MSE minimization problems. That i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esign each    so that its desired output is 1 for           and 0 for any other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Font typeface="Wingdings" charset="2"/>
              <a:buChar char="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cc33"/>
                </a:solidFill>
                <a:latin typeface="Tahoma"/>
              </a:rPr>
              <a:t>Remark: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SE criterion belongs to a more general class of cost function with the following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mporta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perty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value of          is an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stimate, in the MSE sense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-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posteriori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ability              ,  provided that the desired responses used during training are                    and 0 otherwis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154160" y="549360"/>
                <a:ext cx="744696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W</m:t>
                        </m:r>
                      </m:lim>
                    </m:limLow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y</m:t>
                                    </m:r>
                                  </m:e>
                                </m:ba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W</m:t>
                        </m:r>
                      </m:lim>
                    </m:limLow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bar>
                                          <m:barPr>
                                            <m:pos m:val="bot"/>
                                          </m:barPr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i</m:t>
                                            </m:r>
                                          </m:e>
                                          <m:sup>
                                            <m:r>
                                              <m:t xml:space="preserve">T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771640" y="2781360"/>
                <a:ext cx="3304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804000" y="2781360"/>
                <a:ext cx="7318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∈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843280" y="4797360"/>
                <a:ext cx="6825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995640" y="5084640"/>
                <a:ext cx="10350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364000" y="5373720"/>
                <a:ext cx="14353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∈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067280" y="189000"/>
                <a:ext cx="3222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C92B-688B-4E9B-9F3B-03F25ECEAB30}" type="slidenum">
              <a:t>16</a:t>
            </a:fld>
          </a:p>
        </p:txBody>
      </p:sp>
    </p:spTree>
  </p:cSld>
  <p:transition>
    <p:random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64072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ean square error regres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et          ,           be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joint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istributed random vectors with a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j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d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goal: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Give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value of    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stim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value of    . In the pattern recognition framework, given      one wants to estimate the respective label         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SE estimate     of      given       is defined a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turns out tha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bove is known as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regress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      given     and it is, in general, a non-linear function of      . If             is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Gaussi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MSE regressor is line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665680" y="146160"/>
                <a:ext cx="9828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∈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684840" y="152280"/>
                <a:ext cx="8575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∈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ℓ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7740720" y="517680"/>
                <a:ext cx="93348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003640" y="836640"/>
                <a:ext cx="297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8132760" y="915840"/>
                <a:ext cx="2476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948360" y="1125360"/>
                <a:ext cx="3081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708360" y="2243160"/>
                <a:ext cx="2509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427640" y="2227320"/>
                <a:ext cx="2505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651640" y="2189160"/>
                <a:ext cx="35064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25680" y="2643120"/>
                <a:ext cx="271152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ba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acc>
                          <m:accPr>
                            <m:chr m:val="~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lim>
                    </m:limLow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014640" y="3675240"/>
                <a:ext cx="3259080" cy="90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bar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|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</m:d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p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|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)</m:t>
                        </m:r>
                      </m:e>
                    </m:nary>
                    <m:r>
                      <m:t xml:space="preserve">d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580080" y="4836960"/>
                <a:ext cx="2336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7759800" y="4813200"/>
                <a:ext cx="2602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6453360" y="5140440"/>
                <a:ext cx="2458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7292880" y="5140440"/>
                <a:ext cx="93348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362560" y="1541520"/>
                <a:ext cx="7603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F960-9F12-4B3C-96B1-7CFB29050BD5}" type="slidenum">
              <a:t>17</a:t>
            </a:fld>
          </a:p>
        </p:txBody>
      </p:sp>
    </p:spTree>
  </p:cSld>
  <p:transition>
    <p:random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800" y="620640"/>
            <a:ext cx="7989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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MAL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um of erro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quares sense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s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input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i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rresponding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lass label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(±1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620720" y="1819440"/>
                <a:ext cx="3095640" cy="13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J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p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w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2116800" y="2755800"/>
            <a:ext cx="284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training pai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601640" y="3614760"/>
                <a:ext cx="4133880" cy="20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p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w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</m:e>
                      <m:e/>
                      <m:e>
                        <m:r>
                          <m:t xml:space="preserve">(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b>
                        </m:sSub>
                        <m:r>
                          <m:t xml:space="preserve">)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1476360" y="4768920"/>
            <a:ext cx="2654280" cy="86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020000" y="3100320"/>
                <a:ext cx="3222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F4DE-13FE-4FCB-AFE8-BD336F1E0F7B}" type="slidenum">
              <a:t>18</a:t>
            </a:fld>
          </a:p>
        </p:txBody>
      </p:sp>
    </p:spTree>
  </p:cSld>
  <p:transition>
    <p:random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-243000"/>
            <a:ext cx="7772400" cy="588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lvl="1" marL="6390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eudoinverse Matri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835280" y="766800"/>
                <a:ext cx="4824360" cy="34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Sup>
                                    <m:e>
                                      <m:bar>
                                        <m:barPr>
                                          <m:pos m:val="bot"/>
                                        </m:bar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ba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bar>
                                        <m:barPr>
                                          <m:pos m:val="bot"/>
                                        </m:bar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ba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bar>
                                        <m:barPr>
                                          <m:pos m:val="bot"/>
                                        </m:bar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ba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</m:sSubSup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n </m:t>
                        </m:r>
                        <m:r>
                          <m:rPr>
                            <m:lit/>
                            <m:nor/>
                          </m:rPr>
                          <m:t xml:space="preserve">Nxl</m:t>
                        </m:r>
                        <m:r>
                          <m:rPr>
                            <m:lit/>
                            <m:nor/>
                          </m:rPr>
                          <m:t xml:space="preserve"> matrix</m:t>
                        </m:r>
                        <m:r>
                          <m:t xml:space="preserve">)</m:t>
                        </m:r>
                      </m:e>
                      <m:e/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corresponding desired respons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930320" y="4437000"/>
                <a:ext cx="47084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n </m:t>
                    </m:r>
                    <m:r>
                      <m:rPr>
                        <m:lit/>
                        <m:nor/>
                      </m:rPr>
                      <m:t xml:space="preserve">lxN</m:t>
                    </m:r>
                    <m:r>
                      <m:rPr>
                        <m:lit/>
                        <m:nor/>
                      </m:rPr>
                      <m:t xml:space="preserve"> matri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835280" y="5051520"/>
                <a:ext cx="208908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835280" y="5862600"/>
                <a:ext cx="201600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8EB0-8B6C-46DF-B579-98B964884B32}" type="slidenum">
              <a:t>19</a:t>
            </a:fld>
          </a:p>
        </p:txBody>
      </p:sp>
    </p:spTree>
  </p:cSld>
  <p:transition>
    <p:random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1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1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260280"/>
            <a:ext cx="662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476360" y="907920"/>
                <a:ext cx="414828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 on the hyperplan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473120" y="1308240"/>
                <a:ext cx="413712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339920" y="1989000"/>
            <a:ext cx="4960800" cy="3260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195640" y="5445000"/>
                <a:ext cx="331308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, 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A6BC-51D1-42C5-8FF2-BBFB39CCF064}" type="slidenum">
              <a:t>2</a:t>
            </a:fld>
          </a:p>
        </p:txBody>
      </p:sp>
    </p:spTree>
  </p:cSld>
  <p:transition>
    <p:random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5800" y="545760"/>
            <a:ext cx="772632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u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=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quare and invertible.  Th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673280" y="403200"/>
                <a:ext cx="2413080" cy="21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w</m:t>
                                    </m:r>
                                  </m:e>
                                </m:acc>
                              </m:e>
                            </m:bar>
                            <m:r>
                              <m:t xml:space="preserve">=</m:t>
                            </m:r>
                            <m:r>
                              <m:t xml:space="preserve">(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)</m:t>
                        </m:r>
                        <m:bar>
                          <m:barPr>
                            <m:pos m:val="bot"/>
                          </m:bar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</m:ba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⇒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</m:bar>
                        <m:r>
                          <m:t xml:space="preserve">=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654200" y="2786040"/>
                <a:ext cx="21272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≡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3962520" y="2754360"/>
            <a:ext cx="268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Pseudoinverse of 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235240" y="4435560"/>
                <a:ext cx="467208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⇒</m:t>
                        </m:r>
                      </m:e>
                      <m:e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195640" y="5299200"/>
            <a:ext cx="129672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276720" y="3828960"/>
                <a:ext cx="39672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D0D8-CFC0-4920-BD00-613932EF2EBF}" type="slidenum">
              <a:t>20</a:t>
            </a:fld>
          </a:p>
        </p:txBody>
      </p:sp>
    </p:spTree>
  </p:cSld>
  <p:transition>
    <p:random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777240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&gt;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Then, in general, there is no solution to satisfy all equations simultaneously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“solution”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      corresponds to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inimum sum of squares sol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476360" y="1413000"/>
                <a:ext cx="5905440" cy="18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m>
                      <m:mr>
                        <m:e>
                          <m:sSubSup>
                            <m:e>
                              <m:bar>
                                <m:barPr>
                                  <m:pos m:val="bot"/>
                                </m:barPr>
                                <m:e>
                                  <m:r>
                                    <m:t xml:space="preserve">x</m:t>
                                  </m:r>
                                </m:e>
                              </m:ba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T</m:t>
                              </m:r>
                            </m:sup>
                          </m:sSubSup>
                          <m:bar>
                            <m:barPr>
                              <m:pos m:val="bot"/>
                            </m:barPr>
                            <m:e>
                              <m:r>
                                <m:t xml:space="preserve">w</m:t>
                              </m:r>
                            </m:e>
                          </m:ba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mr>
                      <m:mr>
                        <m:e>
                          <m:sSubSup>
                            <m:e>
                              <m:bar>
                                <m:barPr>
                                  <m:pos m:val="bot"/>
                                </m:barPr>
                                <m:e>
                                  <m:r>
                                    <m:t xml:space="preserve">x</m:t>
                                  </m:r>
                                </m:e>
                              </m:ba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T</m:t>
                              </m:r>
                            </m:sup>
                          </m:sSubSup>
                          <m:bar>
                            <m:barPr>
                              <m:pos m:val="bot"/>
                            </m:barPr>
                            <m:e>
                              <m:r>
                                <m:t xml:space="preserve">w</m:t>
                              </m:r>
                            </m:e>
                          </m:ba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mr>
                      <m:mr>
                        <m:e>
                          <m:sSubSup>
                            <m:e>
                              <m:bar>
                                <m:barPr>
                                  <m:pos m:val="bot"/>
                                </m:barPr>
                                <m:e>
                                  <m:r>
                                    <m:t xml:space="preserve">x</m:t>
                                  </m:r>
                                </m:e>
                              </m:bar>
                            </m:e>
                            <m:sub>
                              <m:r>
                                <m:t xml:space="preserve">N</m:t>
                              </m:r>
                            </m:sub>
                            <m:sup>
                              <m:r>
                                <m:t xml:space="preserve">T</m:t>
                              </m:r>
                            </m:sup>
                          </m:sSubSup>
                          <m:bar>
                            <m:barPr>
                              <m:pos m:val="bot"/>
                            </m:barPr>
                            <m:e>
                              <m:r>
                                <m:t xml:space="preserve">w</m:t>
                              </m:r>
                            </m:e>
                          </m:ba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mr>
                    </m:m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 equations 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l </m:t>
                    </m:r>
                    <m:r>
                      <m:rPr>
                        <m:lit/>
                        <m:nor/>
                      </m:rPr>
                      <m:t xml:space="preserve">unknown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987640" y="4330800"/>
                <a:ext cx="115272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B460-81DE-4F98-8EC6-E45B4BF729AE}" type="slidenum">
              <a:t>21</a:t>
            </a:fld>
          </a:p>
        </p:txBody>
      </p:sp>
    </p:spTree>
  </p:cSld>
  <p:transition>
    <p:random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440" y="115560"/>
            <a:ext cx="75358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987640" y="160200"/>
                <a:ext cx="3311640" cy="14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7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: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8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6156360" y="2133720"/>
                <a:ext cx="2901960" cy="34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95280" y="2205000"/>
            <a:ext cx="5688000" cy="327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F14D-1197-4E79-8F2A-97D7E3410E5C}" type="slidenum">
              <a:t>22</a:t>
            </a:fld>
          </a:p>
        </p:txBody>
      </p:sp>
    </p:spTree>
  </p:cSld>
  <p:transition>
    <p:random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440" y="620280"/>
            <a:ext cx="753588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619280" y="1317600"/>
                <a:ext cx="4510080" cy="28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8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8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8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7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  <m:e/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0D8A-4115-4855-B4C5-6C3ADCF84B70}" type="slidenum">
              <a:t>23</a:t>
            </a:fld>
          </a:p>
        </p:txBody>
      </p:sp>
    </p:spTree>
  </p:cSld>
  <p:transition>
    <p:random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5800" y="44280"/>
            <a:ext cx="805176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Bias – Variance Dilem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lassifier        is 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learning machin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at tries to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predi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class label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   . In practice, 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fini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ata s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used for its training. Let us write           . Observe tha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o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raining sets,                                    ,  the training may result to good estimates, for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ome othe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result may be wors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verage performance of the classifier can be tested against the MSE optimal value, in the mean squares sense, that i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2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</a:t>
            </a:r>
            <a:r>
              <a:rPr b="0" lang="en-US" sz="22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an over all possible data sets</a:t>
            </a:r>
            <a:r>
              <a:rPr b="0" lang="en-US" sz="22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436840" y="533520"/>
                <a:ext cx="65556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451320" y="852480"/>
                <a:ext cx="2476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492800" y="1197000"/>
                <a:ext cx="10080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;</m:t>
                    </m:r>
                    <m:r>
                      <m:t xml:space="preserve">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356000" y="2013120"/>
                <a:ext cx="3167280" cy="44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276720" y="4653000"/>
                <a:ext cx="325584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r>
                                  <m:t xml:space="preserve">;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E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|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r>
                                  <m:t xml:space="preserve">]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FE67-7818-479D-B8B3-1568CB57427B}" type="slidenum">
              <a:t>24</a:t>
            </a:fld>
          </a:p>
        </p:txBody>
      </p:sp>
    </p:spTree>
  </p:cSld>
  <p:transition>
    <p:random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44280"/>
            <a:ext cx="805176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bove is written a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 above,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fir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erm is the contribution of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bia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the second term is the contribution of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varia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a finit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here is a trade-off between the two terms.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Increasing bias it reduces variance and vice ver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This is known a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bias-variance dilemma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ing 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omple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odel results in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low-bia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ut 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high varia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s one changes from one training set to another. Using a </a:t>
            </a:r>
            <a:r>
              <a:rPr b="0" lang="en-US" sz="2200" spc="-1" strike="noStrike">
                <a:solidFill>
                  <a:srgbClr val="66ff33"/>
                </a:solidFill>
                <a:latin typeface="Tahoma"/>
              </a:rPr>
              <a:t>simp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odel results in </a:t>
            </a:r>
            <a:r>
              <a:rPr b="0" lang="en-US" sz="2200" spc="-1" strike="noStrike">
                <a:solidFill>
                  <a:srgbClr val="66ff33"/>
                </a:solidFill>
                <a:latin typeface="Tahoma"/>
              </a:rPr>
              <a:t>high bia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ut </a:t>
            </a:r>
            <a:r>
              <a:rPr b="0" lang="en-US" sz="2200" spc="-1" strike="noStrike">
                <a:solidFill>
                  <a:srgbClr val="66ff33"/>
                </a:solidFill>
                <a:latin typeface="Tahoma"/>
              </a:rPr>
              <a:t>low varia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446640" y="549360"/>
                <a:ext cx="353376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r>
                                  <m:t xml:space="preserve">;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E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|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r>
                                  <m:t xml:space="preserve">]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271520" y="1197000"/>
                <a:ext cx="734868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r>
                                  <m:t xml:space="preserve">;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  <m:r>
                              <m:t xml:space="preserve">[</m:t>
                            </m:r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]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r>
                                  <m:t xml:space="preserve">;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g</m:t>
                                    </m:r>
                                    <m:r>
                                      <m:t xml:space="preserve">(</m:t>
                                    </m:r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  <m:r>
                                      <m:t xml:space="preserve">;</m:t>
                                    </m:r>
                                    <m:r>
                                      <m:t xml:space="preserve">D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1439-4AA6-4F71-B271-DAAC622DF11B}" type="slidenum">
              <a:t>25</a:t>
            </a:fld>
          </a:p>
        </p:txBody>
      </p:sp>
    </p:spTree>
  </p:cSld>
  <p:transition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869760"/>
            <a:ext cx="7726320" cy="55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an   -class task,                  . In logistic discrimination, the logarithm of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likelihood ratio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re modeled vi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linear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unctions, i.e.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aking into account tha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can be easily shown that the above is equivalent with modeling posterior probabilities a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787680" y="379440"/>
            <a:ext cx="44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LOGISTIC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195640" y="1989000"/>
                <a:ext cx="511308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num>
                          <m:den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b>
                    </m:sSub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 M-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906720" y="3645000"/>
                <a:ext cx="17449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968640" y="868320"/>
                <a:ext cx="158436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268360" y="907920"/>
                <a:ext cx="420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6871-6950-4CA7-90E6-518F584CB430}" type="slidenum">
              <a:t>26</a:t>
            </a:fld>
          </a:p>
        </p:txBody>
      </p:sp>
    </p:spTree>
  </p:cSld>
  <p:transition>
    <p:random/>
  </p:transition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088120" cy="599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the two-class case it turns out th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548080" y="169920"/>
                <a:ext cx="396864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|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</m:ba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</m:sub>
                                </m:sSub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706400" y="1413000"/>
                <a:ext cx="5524560" cy="12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w</m:t>
                                    </m:r>
                                  </m:e>
                                </m:bar>
                              </m:e>
                              <m:sub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</m:sub>
                            </m:sSub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</m:ba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</m:sub>
                                </m:sSub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</m:nary>
                      </m:den>
                    </m:f>
                    <m:r>
                      <m:t xml:space="preserve">,</m:t>
                    </m:r>
                    <m:r>
                      <m:t xml:space="preserve">ι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Μ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024360" y="3789360"/>
                <a:ext cx="334620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p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w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048120" y="4826160"/>
                <a:ext cx="332424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p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w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p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w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C435-90A1-4E85-A0A6-7031C73F60A4}" type="slidenum">
              <a:t>27</a:t>
            </a:fld>
          </a:p>
        </p:txBody>
      </p:sp>
    </p:spTree>
  </p:cSld>
  <p:transition>
    <p:random/>
  </p:transition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088120" cy="599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unknown parameters                                     are usually estimated by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aximum likelihoo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rgum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gistic discrimination is a useful tool, since it allows linear modeling and at the same tim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nsur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sterior probabilitie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o add to on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424400" y="419040"/>
                <a:ext cx="291456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 M-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1DF5-ECC4-4065-B954-E1AB0AA0BDD2}" type="slidenum">
              <a:t>28</a:t>
            </a:fld>
          </a:p>
        </p:txBody>
      </p:sp>
    </p:spTree>
  </p:cSld>
  <p:transition>
    <p:random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5800" y="869760"/>
            <a:ext cx="7726320" cy="55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goal:  Given two linearly separable classes, design the classifier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leaves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maximum marg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rom both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330720" y="1557360"/>
                <a:ext cx="257940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332000" y="2852640"/>
            <a:ext cx="6408720" cy="34815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17480" y="379440"/>
            <a:ext cx="41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upport Vecto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A650-DAE3-40CC-B58D-7E9F41ACD75D}" type="slidenum">
              <a:t>29</a:t>
            </a:fld>
          </a:p>
        </p:txBody>
      </p:sp>
    </p:spTree>
  </p:cSld>
  <p:transition>
    <p:random/>
  </p:transition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514440"/>
            <a:ext cx="77724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Perceptr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 linearly separable classes, i.e.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as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alls under the above formulation, si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060720" y="1781280"/>
                <a:ext cx="28796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∃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*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w</m:t>
                        </m:r>
                        <m:sSup>
                          <m:e>
                            <m:r>
                              <m:t xml:space="preserve">∗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∀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sSup>
                          <m:e>
                            <m:r>
                              <m:t xml:space="preserve">∗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∀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738520" y="3181320"/>
                <a:ext cx="12952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sSup>
                          <m:e/>
                          <m:sup>
                            <m:r>
                              <m:t xml:space="preserve">T</m:t>
                            </m:r>
                          </m:sup>
                        </m:sSup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124000" y="4221000"/>
                <a:ext cx="230364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'</m:t>
                    </m:r>
                    <m:r>
                      <m:t xml:space="preserve">≡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bar>
                                <m:barPr>
                                  <m:pos m:val="bot"/>
                                </m:barPr>
                                <m:e>
                                  <m:r>
                                    <m:t xml:space="preserve">w</m:t>
                                  </m:r>
                                </m:e>
                              </m:bar>
                              <m:r>
                                <m:t xml:space="preserve">∗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  <m:sup/>
                              </m:sSubSup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'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bar>
                                <m:barPr>
                                  <m:pos m:val="bot"/>
                                </m:barPr>
                                <m:e>
                                  <m:r>
                                    <m:t xml:space="preserve">x</m:t>
                                  </m:r>
                                </m:e>
                              </m:ba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050920" y="5589720"/>
                <a:ext cx="28814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sSup>
                      <m:e>
                        <m:r>
                          <m:t xml:space="preserve">∗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  <m:sup/>
                    </m:sSubSup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sSup>
                      <m:e>
                        <m:r>
                          <m:t xml:space="preserve">'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E7D3-03B3-4238-BC06-81D071376B4B}" type="slidenum">
              <a:t>3</a:t>
            </a:fld>
          </a:p>
        </p:txBody>
      </p:sp>
    </p:spTree>
  </p:cSld>
  <p:transition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85800" y="869760"/>
            <a:ext cx="7726320" cy="55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arg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Each hyperplane is characterized b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s direction in space, i.e.,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s position in space, i.e.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A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rection,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oose the hyperplane that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leaves the SAME </a:t>
            </a:r>
            <a:r>
              <a:rPr b="0" lang="el-GR" sz="2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ista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rom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near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ints from each class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argin is twice this dista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219640" y="2060640"/>
                <a:ext cx="3049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148360" y="2852640"/>
                <a:ext cx="41904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356000" y="3700440"/>
                <a:ext cx="3049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8909-D47B-4E20-92BC-EB38231C4C50}" type="slidenum">
              <a:t>30</a:t>
            </a:fld>
          </a:p>
        </p:txBody>
      </p:sp>
    </p:spTree>
  </p:cSld>
  <p:transition>
    <p:random/>
  </p:transition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5440" y="43920"/>
            <a:ext cx="7342200" cy="465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istance of a point  from a hyperplan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given by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cale,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so that at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nearest point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rom each class the discriminant function is ±1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us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arg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given b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so, the following is vali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003640" y="47520"/>
                <a:ext cx="255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314440" y="1830240"/>
                <a:ext cx="88920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, 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459240" y="692280"/>
                <a:ext cx="135900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bar>
                        <m:r>
                          <m:t xml:space="preserve">)</m:t>
                        </m:r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836720" y="2637000"/>
                <a:ext cx="59040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rPr>
                            <m:lit/>
                            <m:nor/>
                          </m:rPr>
                          <m:t xml:space="preserve">1 for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for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706920" y="3789360"/>
                <a:ext cx="187308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</m:d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w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48000" y="5516640"/>
                <a:ext cx="295272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∀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∀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3A38-336A-4939-90F6-6E95BFAADD42}" type="slidenum">
              <a:t>31</a:t>
            </a:fld>
          </a:p>
        </p:txBody>
      </p:sp>
    </p:spTree>
  </p:cSld>
  <p:transition>
    <p:random/>
  </p:transition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4000" y="253800"/>
            <a:ext cx="7149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lvl="1" marL="594360" indent="-228600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SVM (linear) classifi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inim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ubject t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bove is justified since by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inimiz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arg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s maximis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868480" y="736560"/>
                <a:ext cx="20131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798640" y="1665360"/>
                <a:ext cx="181764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556000" y="3538440"/>
                <a:ext cx="23032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for 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for 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567160" y="2962440"/>
                <a:ext cx="36493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6877080" y="4941720"/>
                <a:ext cx="4525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203640" y="5445000"/>
                <a:ext cx="495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w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AE41-5494-469A-9738-A0A4E510FE73}" type="slidenum">
              <a:t>32</a:t>
            </a:fld>
          </a:p>
        </p:txBody>
      </p:sp>
    </p:spTree>
  </p:cSld>
  <p:transition>
    <p:random/>
  </p:transition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1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500"/>
                                        <p:tgtEl>
                                          <p:spTgt spid="1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88640"/>
            <a:ext cx="7726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bove is 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quadratic optimization task</a:t>
            </a:r>
            <a:r>
              <a:rPr b="0" lang="el-GR" sz="2200" spc="-1" strike="noStrike">
                <a:solidFill>
                  <a:srgbClr val="3333cc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ubject to a set of linear inequality constraints. 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Karush-Kuhh-Tuck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ditions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e that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inimiz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atisfies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3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is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Lagrangia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2411280" y="1776240"/>
                <a:ext cx="21607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den>
                    </m:f>
                    <m:r>
                      <m:rPr>
                        <m:lit/>
                        <m:nor/>
                      </m:rPr>
                      <m:t xml:space="preserve"> L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,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λ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0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424240" y="2565360"/>
                <a:ext cx="227808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L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,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λ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556000" y="3573360"/>
                <a:ext cx="24476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627280" y="4292640"/>
                <a:ext cx="43322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843280" y="5229360"/>
                <a:ext cx="865080" cy="33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⋅</m:t>
                    </m:r>
                    <m:r>
                      <m:t xml:space="preserve">,</m:t>
                    </m:r>
                    <m:r>
                      <m:t xml:space="preserve">⋅</m:t>
                    </m:r>
                    <m:r>
                      <m:t xml:space="preserve">,</m:t>
                    </m:r>
                    <m:r>
                      <m:t xml:space="preserve">⋅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340000" y="5589720"/>
                <a:ext cx="52894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,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λ</m:t>
                        </m:r>
                      </m:e>
                    </m:ba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[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722A-1CB0-44CE-AB1F-8ACD0D2C1785}" type="slidenum">
              <a:t>33</a:t>
            </a:fld>
          </a:p>
        </p:txBody>
      </p:sp>
    </p:spTree>
  </p:cSld>
  <p:transition>
    <p:random/>
  </p:transition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733320" y="1152000"/>
            <a:ext cx="7726320" cy="38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olution:  from the above, it turns out th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171880" y="2160720"/>
                <a:ext cx="1944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171880" y="3359160"/>
                <a:ext cx="14396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9D2B-D4A1-4083-8E4D-014B2C8C8B49}" type="slidenum">
              <a:t>34</a:t>
            </a:fld>
          </a:p>
        </p:txBody>
      </p:sp>
    </p:spTree>
  </p:cSld>
  <p:transition>
    <p:random/>
  </p:transition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5800" y="115560"/>
            <a:ext cx="7726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653760" indent="-251280" algn="just">
              <a:spcBef>
                <a:spcPts val="55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Lagrange multiplie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either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zero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positi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Thus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-20088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 , corresponding to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positi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Lagrange multipli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-20088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rom constraint (4) above, i.e.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ectors contributing t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484360" y="1413000"/>
                <a:ext cx="172728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3220920" y="2508120"/>
                <a:ext cx="1008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825640" y="4076640"/>
                <a:ext cx="46436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[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924360" y="5373720"/>
                <a:ext cx="2160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5729400" y="4756320"/>
                <a:ext cx="3553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5725440" y="4802040"/>
            <a:ext cx="1702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tisf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C94D-7DF5-49C3-B880-0B9F8A6EF98A}" type="slidenum">
              <a:t>35</a:t>
            </a:fld>
          </a:p>
        </p:txBody>
      </p:sp>
    </p:spTree>
  </p:cSld>
  <p:transition>
    <p:random/>
  </p:transition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2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85800" y="720360"/>
            <a:ext cx="7726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3" marL="15681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se vectors are known as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SUPPORT VECTORS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are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closest vecto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from each class, to the classifi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ce  is computed,  is determined from conditions (4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ptimal hyperplane classifier of a support vector machine is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UNI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though the solution is unique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resulting Lagrange multipliers ar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unique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16160" y="2405160"/>
                <a:ext cx="3049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5286240" y="242100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4FFB-E31E-456F-BA07-292B21EEAAA1}" type="slidenum">
              <a:t>36</a:t>
            </a:fld>
          </a:p>
        </p:txBody>
      </p:sp>
    </p:spTree>
  </p:cSld>
  <p:transition>
    <p:random/>
  </p:transition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4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85800" y="69480"/>
            <a:ext cx="7726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ual Problem Formul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VM formulation is a convex programming problem, wit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550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onvex cost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550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onvex region of feasible solu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us, its solution can be achieved by its dual problem, i.e.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xim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bject t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741840" y="3173400"/>
                <a:ext cx="13874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,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λ</m:t>
                        </m:r>
                      </m:e>
                    </m:ba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3021120" y="4292640"/>
                <a:ext cx="1695240" cy="22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λ</m:t>
                            </m:r>
                          </m:e>
                        </m:bar>
                        <m:r>
                          <m:t xml:space="preserve">≥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0</m:t>
                            </m: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2556000" y="3429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53D4-604B-4F19-9E77-639CDCC9BEFB}" type="slidenum">
              <a:t>37</a:t>
            </a:fld>
          </a:p>
        </p:txBody>
      </p:sp>
    </p:spTree>
  </p:cSld>
  <p:transition>
    <p:random/>
  </p:transition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6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2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9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85800" y="69480"/>
            <a:ext cx="7726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bine the above to obtai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550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axim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550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ubject t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635280" y="1052640"/>
                <a:ext cx="36720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203640" y="2997360"/>
                <a:ext cx="1224000" cy="11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λ</m:t>
                            </m:r>
                          </m:e>
                        </m:bar>
                        <m:r>
                          <m:t xml:space="preserve">≥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0</m:t>
                            </m: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1332000" y="151920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8A50-47F0-4275-9499-D1132DED2532}" type="slidenum">
              <a:t>38</a:t>
            </a:fld>
          </a:p>
        </p:txBody>
      </p:sp>
    </p:spTree>
  </p:cSld>
  <p:transition>
    <p:random/>
  </p:transition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685440" y="44280"/>
            <a:ext cx="7823160" cy="54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Remarks</a:t>
            </a:r>
            <a:r>
              <a:rPr b="0" lang="el-GR" sz="2200" spc="-1" strike="noStrike">
                <a:solidFill>
                  <a:srgbClr val="00cc99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pport vectors enter via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inner produc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n-Separable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6189840" y="3657600"/>
                <a:ext cx="7506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971640" y="2579760"/>
            <a:ext cx="7489800" cy="329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490D-2802-43C7-BE2B-7A5904272486}" type="slidenum">
              <a:t>39</a:t>
            </a:fld>
          </a:p>
        </p:txBody>
      </p:sp>
    </p:spTree>
  </p:cSld>
  <p:transition>
    <p:random/>
  </p:transition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9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865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r goal:  Compute a solution, i.e., a hyperplane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th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tep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e a cost function to be minimiz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oose an algorithm to minimize the cost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inimum corresponds to a sol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056040" y="1843200"/>
                <a:ext cx="346068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(</m:t>
                    </m:r>
                    <m:r>
                      <m:t xml:space="preserve">&gt;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)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 flipV="1">
            <a:off x="5078520" y="2130120"/>
            <a:ext cx="93348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91120" y="2328840"/>
            <a:ext cx="9936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0EE2-3873-4920-A79A-9D1AFF72151C}" type="slidenum">
              <a:t>4</a:t>
            </a:fld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685440" y="44280"/>
            <a:ext cx="7823160" cy="54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is case, there is no hyperplane such th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call that the margin is defined as twice the distance between the following two hyperplan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916360" y="2205000"/>
                <a:ext cx="3141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&gt;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)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∀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6189840" y="3657600"/>
                <a:ext cx="7506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3132000" y="4213080"/>
                <a:ext cx="280836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</m:e>
                      <m:e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F7DD-AC5E-40F4-BF99-5F372A0F6C54}" type="slidenum">
              <a:t>40</a:t>
            </a:fld>
          </a:p>
        </p:txBody>
      </p:sp>
    </p:spTree>
  </p:cSld>
  <p:transition>
    <p:random/>
  </p:transition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4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685800" y="277560"/>
            <a:ext cx="7726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708480" indent="-2833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training vectors belong to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one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th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ssible categori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8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83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1)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ector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outsi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band which ar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orrectl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classified, i.e.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83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83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983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2)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ector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nsi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band, and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orrect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ified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i.e.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83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83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983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83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3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Vector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isclassifi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i.e.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83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83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448080" y="2193840"/>
                <a:ext cx="21733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6189840" y="3139920"/>
                <a:ext cx="75060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2820960" y="3849840"/>
                <a:ext cx="3284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2809800" y="5146560"/>
                <a:ext cx="32371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958F-6D95-497E-A7FC-DCAE0571D5A6}" type="slidenum">
              <a:t>41</a:t>
            </a:fld>
          </a:p>
        </p:txBody>
      </p:sp>
    </p:spTree>
  </p:cSld>
  <p:transition>
    <p:random/>
  </p:transition>
  <p:timing>
    <p:tnLst>
      <p:par>
        <p:cTn id="1206" dur="indefinite" restart="never" nodeType="tmRoot">
          <p:childTnLst>
            <p:seq>
              <p:cTn id="1207" dur="indefinite" nodeType="mainSeq">
                <p:childTnLst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2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7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5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3" dur="500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8" dur="500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85800" y="792000"/>
            <a:ext cx="7726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62120" indent="-3049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three cases above can be represented 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3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 known as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slack variab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189840" y="3654360"/>
                <a:ext cx="7506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881440" y="1268280"/>
                <a:ext cx="258588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268360" y="1955880"/>
                <a:ext cx="144000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→</m:t>
                        </m:r>
                        <m:r>
                          <m:t xml:space="preserve">1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763640" y="3571920"/>
                <a:ext cx="3380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A888-E5E7-48D6-90C9-CBE7A410F311}" type="slidenum">
              <a:t>42</a:t>
            </a:fld>
          </a:p>
        </p:txBody>
      </p:sp>
    </p:spTree>
  </p:cSld>
  <p:transition>
    <p:random/>
  </p:transition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8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1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7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0" dur="500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685800" y="-243000"/>
            <a:ext cx="7631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lvl="1" marL="549720" indent="0">
              <a:spcBef>
                <a:spcPts val="55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9720" indent="-2113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goal of the optimization is now two-fo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5640" indent="-168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ximize margi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5640" indent="-168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nimize the number of patterns with           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5640" indent="0">
              <a:spcBef>
                <a:spcPts val="55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way to achieve this goal is via the co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9720" indent="0">
              <a:spcBef>
                <a:spcPts val="550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9720" indent="0">
              <a:spcBef>
                <a:spcPts val="249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549720" indent="0">
              <a:spcBef>
                <a:spcPts val="3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549720" indent="0">
              <a:spcBef>
                <a:spcPts val="55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constant an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9720" indent="0">
              <a:spcBef>
                <a:spcPts val="55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9720" indent="0">
              <a:spcBef>
                <a:spcPts val="55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9720" indent="0">
              <a:spcBef>
                <a:spcPts val="2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845640" indent="-168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(.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not differentiable.  In practice, we use an approxim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5640" indent="0">
              <a:spcBef>
                <a:spcPts val="55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5640" indent="-168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5640" indent="0">
              <a:spcBef>
                <a:spcPts val="550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5640" indent="-168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llowing a similar procedure as before we obtai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5640" indent="0">
              <a:spcBef>
                <a:spcPts val="550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5640" indent="0">
              <a:spcBef>
                <a:spcPts val="550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6659640" y="993600"/>
                <a:ext cx="72072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2736720" y="1773360"/>
                <a:ext cx="36673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,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ξ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I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3348000" y="2997360"/>
                <a:ext cx="23763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944720" y="4869000"/>
                <a:ext cx="333684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,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ξ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182D-1360-4BFA-B9D7-624BE06A810F}" type="slidenum">
              <a:t>43</a:t>
            </a:fld>
          </a:p>
        </p:txBody>
      </p:sp>
    </p:spTree>
  </p:cSld>
  <p:transition>
    <p:random/>
  </p:transition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6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6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5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8" dur="500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6" dur="500"/>
                                        <p:tgtEl>
                                          <p:spTgt spid="2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2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9" dur="500"/>
                                        <p:tgtEl>
                                          <p:spTgt spid="2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685800" y="387000"/>
            <a:ext cx="772632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KKT condi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2185920" y="1330200"/>
                <a:ext cx="5058000" cy="32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[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0456-C040-4B53-88FA-FE10248DC56D}" type="slidenum">
              <a:t>44</a:t>
            </a:fld>
          </a:p>
        </p:txBody>
      </p:sp>
    </p:spTree>
  </p:cSld>
  <p:transition>
    <p:random/>
  </p:transition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685800" y="44280"/>
            <a:ext cx="7726320" cy="599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ssociated dual probl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axim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ubject t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cc99"/>
                </a:solidFill>
                <a:uFillTx/>
                <a:latin typeface="Tahoma"/>
              </a:rPr>
              <a:t>Remarks</a:t>
            </a: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nly difference with the separabl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 case is the existence of     in th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tra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3019320" y="1071720"/>
                <a:ext cx="3321000" cy="83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λ</m:t>
                        </m:r>
                      </m:e>
                    </m:bar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nary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2771640" y="2565360"/>
                <a:ext cx="266400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7124760" y="4844880"/>
                <a:ext cx="3016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9A9F-2FBE-4E4F-B6CC-0E4C3CB94103}" type="slidenum">
              <a:t>45</a:t>
            </a:fld>
          </a:p>
        </p:txBody>
      </p:sp>
    </p:spTree>
  </p:cSld>
  <p:transition>
    <p:random/>
  </p:transition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6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9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2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3" dur="500"/>
                                        <p:tgtEl>
                                          <p:spTgt spid="2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685800" y="44280"/>
            <a:ext cx="7726320" cy="599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aining the SV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ajor problem is the high computational cost. To this end, decomposition techniques are used. The rationale behind them consists of the following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t with an arbitrary data subset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(working 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can fit in the memory. Perform optimization, via a general purpose optimiz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ing support vectors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emain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e working set, while others are replaced by new ones (outside the set) that violate severely the KKT condit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eat the proced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above procedure guarantees that the cost function decrea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tt’s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MO algorith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hooses a working set of two samples, thus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analytic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timization solution can be obtain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2C26-A8F0-4FBC-88A5-80CCE95178E3}" type="slidenum">
              <a:t>46</a:t>
            </a:fld>
          </a:p>
        </p:txBody>
      </p:sp>
    </p:spTree>
  </p:cSld>
  <p:transition>
    <p:random/>
  </p:transition>
  <p:timing>
    <p:tnLst>
      <p:par>
        <p:cTn id="1357" dur="indefinite" restart="never" nodeType="tmRoot">
          <p:childTnLst>
            <p:seq>
              <p:cTn id="1358" dur="indefinite" nodeType="mainSeq">
                <p:childTnLst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3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6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1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6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1" dur="5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6" dur="5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1" dur="500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85800" y="44280"/>
            <a:ext cx="7918560" cy="66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lti-class generaliz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though theoretical generalizations exist, the most popular in practice is to look at the problem a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wo-class problems (one against all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bserve the effect of different values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2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 case of non-separable class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835280" y="2708280"/>
            <a:ext cx="6264000" cy="275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C5D1-EEBE-4F26-A99B-A737062E5E52}" type="slidenum">
              <a:t>47</a:t>
            </a:fld>
          </a:p>
        </p:txBody>
      </p:sp>
    </p:spTree>
  </p:cSld>
  <p:transition>
    <p:random/>
  </p:transition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8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1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6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4" dur="500"/>
                                        <p:tgtEl>
                                          <p:spTgt spid="2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333000"/>
            <a:ext cx="7726320" cy="56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st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ubset of the vector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wrong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ified by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Whe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(empty set) a solution is achieved an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689200" y="836640"/>
                <a:ext cx="232560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r>
                          <m:t xml:space="preserve">Y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154240" y="3213000"/>
                <a:ext cx="14493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050920" y="4108320"/>
                <a:ext cx="324036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if 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  and 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if 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  and 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124000" y="5300640"/>
                <a:ext cx="16606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3891-DD34-4018-986C-C6A0CB3809A4}" type="slidenum">
              <a:t>5</a:t>
            </a:fld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829800" y="907920"/>
            <a:ext cx="7054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2" marL="1062720" indent="-212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w</a:t>
            </a:r>
            <a:r>
              <a:rPr b="0" lang="el-GR" sz="22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piecewise linear (WHY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hilosophy of the gradient descent is adop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124000" y="1596960"/>
            <a:ext cx="5329440" cy="2154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9C73-FDD9-4A46-B6E2-626FA038C96B}" type="slidenum">
              <a:t>6</a:t>
            </a:fld>
          </a:p>
        </p:txBody>
      </p:sp>
    </p:spTree>
  </p:cSld>
  <p:transition>
    <p:random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800" y="259920"/>
            <a:ext cx="76312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Wherever vali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the celebrated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Perceptron Algorith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362240" y="3068640"/>
                <a:ext cx="273996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e>
                        <m:r>
                          <m:t xml:space="preserve">Δ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den>
                        </m:f>
                        <m:r>
                          <m:t xml:space="preserve">|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=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978200" y="4719600"/>
                <a:ext cx="381924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den>
                    </m:f>
                    <m:r>
                      <m:t xml:space="preserve">(</m:t>
                    </m:r>
                    <m:nary>
                      <m:naryPr>
                        <m:chr m:val="∑"/>
                        <m:supHide m:val="1"/>
                      </m:naryPr>
                      <m: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r>
                          <m:t xml:space="preserve">Y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∈</m:t>
                            </m:r>
                            <m:r>
                              <m:t xml:space="preserve">Y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nary>
                      </m:e>
                    </m:nary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195640" y="5805360"/>
                <a:ext cx="252072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nary>
                      <m:naryPr>
                        <m:chr m:val="∑"/>
                        <m:supHide m:val="1"/>
                      </m:naryPr>
                      <m: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r>
                          <m:t xml:space="preserve">Y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nary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293840" y="115920"/>
            <a:ext cx="6556320" cy="2808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994440" y="291780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E120-9592-4C60-A2B5-A4901772DC6F}" type="slidenum">
              <a:t>7</a:t>
            </a:fld>
          </a:p>
        </p:txBody>
      </p:sp>
    </p:spTree>
  </p:cSld>
  <p:transition>
    <p:random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6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800" y="44280"/>
            <a:ext cx="76312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An example</a:t>
            </a:r>
            <a:r>
              <a:rPr b="0" lang="el-GR" sz="2400" spc="-1" strike="noStrike">
                <a:solidFill>
                  <a:srgbClr val="00cc99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erceptron algorithm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onverg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a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fini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umber of iteration steps to a solution i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741760" y="3463920"/>
                <a:ext cx="37526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582560" y="5181480"/>
                <a:ext cx="5942160" cy="14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t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→</m:t>
                        </m:r>
                        <m:r>
                          <m:t xml:space="preserve">∞</m:t>
                        </m:r>
                        <m:r>
                          <m:t xml:space="preserve">,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t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k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&lt;+</m:t>
                        </m:r>
                        <m:r>
                          <m:t xml:space="preserve">∞</m:t>
                        </m:r>
                      </m:e>
                      <m:e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:  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068560" y="566640"/>
            <a:ext cx="5006880" cy="286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9DC2-C235-42CB-A5D0-18633B4FEA29}" type="slidenum">
              <a:t>8</a:t>
            </a:fld>
          </a:p>
        </p:txBody>
      </p:sp>
    </p:spTree>
  </p:cSld>
  <p:transition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800" y="188640"/>
            <a:ext cx="76312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useful variant of the perceptr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a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ward and punishm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type of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206800" y="1285920"/>
                <a:ext cx="4464000" cy="22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ρ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,   </m:t>
                        </m:r>
                        <m:m>
                          <m:mr>
                            <m:e>
                              <m:sSup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</m:ba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sub>
                              </m:sSub>
                              <m:r>
                                <m:t xml:space="preserve">∈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  </m:t>
                        </m:r>
                        <m:m>
                          <m:mr>
                            <m:e>
                              <m:sSup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</m:ba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sub>
                              </m:sSub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sub>
                              </m:sSub>
                              <m:r>
                                <m:t xml:space="preserve">∈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otherwi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2556000" y="4653000"/>
            <a:ext cx="324000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719F-CC08-49B0-8EE3-DF5B953E7959}" type="slidenum">
              <a:t>9</a:t>
            </a:fld>
          </a:p>
        </p:txBody>
      </p:sp>
    </p:spTree>
  </p:cSld>
  <p:transition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2T18:14:25Z</dcterms:created>
  <dc:creator>Jim</dc:creator>
  <dc:description/>
  <dc:language>en-US</dc:language>
  <cp:lastModifiedBy>ST</cp:lastModifiedBy>
  <dcterms:modified xsi:type="dcterms:W3CDTF">2006-09-01T12:56:11Z</dcterms:modified>
  <cp:revision>733</cp:revision>
  <dc:subject/>
  <dc:title>PowerPoint Presentation</dc:title>
</cp:coreProperties>
</file>