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392B-B2B5-42FD-8BEE-7AA12A90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7DF-12C1-4564-BAFD-F588457C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839-2002-4E65-845D-65562F4A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8C7-200B-46C2-B307-EB3C7D37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0DB-AA2E-43E2-8459-44763D12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911F-D5ED-471C-86C9-BC9E290A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77A8-C7DB-427D-9896-25C12D86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EFA1-14ED-40BB-94BF-66055993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B45-24AD-4057-B789-42A2058B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B6E-8C62-424B-9C60-67F7BC98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A31-599E-4F4A-9DC9-32559647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72F5-9BF5-401F-9092-E764F47A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3D86-7134-494D-8C1F-191DC5B3474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5040" y="188640"/>
            <a:ext cx="7772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Optimal Feature Gene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0728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eature generation is a problem-dependent task. However, there are a few general directions common in a number of applications. We focus on three such alterna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timized features based on Scatter matric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(Fisher’s linear discriminatio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: Given an original se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asurement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, by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inear transform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that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cattering matrix criterion involv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maximized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19280" y="3573360"/>
                <a:ext cx="863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780000" y="3573360"/>
                <a:ext cx="8395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ℓ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924360" y="4149720"/>
                <a:ext cx="1297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552920" y="5402160"/>
                <a:ext cx="5428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  <m:r>
                      <m:rPr>
                        <m:lit/>
                        <m:nor/>
                      </m:rPr>
                      <m:t xml:space="preserve">x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EE8-3EC4-412C-A99A-41DFFA338754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space Classification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llowing the idea of projecting in a subspace, the subspace classificatio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assifi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 unknown      to the class whos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space is closer t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ollowing steps are in ord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ach class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stimate the autocorrelation matrix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compute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argest eigenvalu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For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y using respective eigenvectors as colum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ify      to the class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which the norm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space projection is maximu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ording to Pythagoras theorem, this corresponds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sub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which    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os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608200" y="101268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8001000" y="1004760"/>
                <a:ext cx="2541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792520" y="3660840"/>
                <a:ext cx="2556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21240" y="541332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594240" y="4437000"/>
                <a:ext cx="2877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&gt;</m:t>
                    </m:r>
                    <m:d>
                      <m:dPr>
                        <m:begChr m:val="‖"/>
                        <m:endChr m:val="‖"/>
                      </m:d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EA8-9DD6-4253-BC5B-184CBDE3EE75}" type="slidenum">
              <a:t>10</a:t>
            </a:fld>
          </a:p>
        </p:txBody>
      </p: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0728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dependent Component Analysis (IC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ontrast to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CA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re the goal was to produc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ncorrela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eatures, the goal i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o produc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istically independ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eatures. This is a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uch stron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quirement, involving higher to second order statistics. In this way, one may overcome the problems of PCA, as exposed befo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: Given      , compu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that the components of  are statistically independent. In order  the problem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o have a solution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following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vali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    is indeed generated by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 linear combin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depend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562200" y="298296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537160" y="2967120"/>
                <a:ext cx="8398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ℓ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184640" y="3371760"/>
                <a:ext cx="1206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r>
                      <m:t xml:space="preserve">W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867280" y="3789360"/>
                <a:ext cx="298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679920" y="4989600"/>
                <a:ext cx="2714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170240" y="5757840"/>
                <a:ext cx="11462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r>
                      <m:t xml:space="preserve">Φ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44AE-5CB8-490D-8850-A171A83F0462}" type="slidenum">
              <a:t>11</a:t>
            </a:fld>
          </a:p>
        </p:txBody>
      </p:sp>
    </p:spTree>
  </p:cSld>
  <p:transition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0728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known a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x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emix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invertible or of full column ran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dentifiability conditio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dependent component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on-Gaussi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us, in contrast to PCA that can always be performed, ICA is meaningful for non-Gaussian variable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der the above assumption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’s can be uniquely estimated, within a scalar fa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180-A97D-4A3D-B664-8F86F583CA06}" type="slidenum">
              <a:t>12</a:t>
            </a:fld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0728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mmon’s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iven   , and under the previously stated assumptions, the following steps are adop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ep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erform PCA on    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ep 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ompute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uni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,   , so that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ourth order cross-cummula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transform vec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re zer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is is equivalent to searching for an     that makes the squares of the auto-cummulants maximum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,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is the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der auto-cumula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508720" y="189000"/>
                <a:ext cx="3380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729320" y="1270080"/>
                <a:ext cx="2556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211640" y="1700280"/>
                <a:ext cx="1297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940360" y="2349360"/>
                <a:ext cx="2923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165560" y="3213000"/>
                <a:ext cx="1297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667640" y="3784680"/>
                <a:ext cx="2919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330720" y="4508640"/>
                <a:ext cx="334620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lim>
                    </m:limLow>
                    <m:r>
                      <m:t xml:space="preserve">Ψ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871720" y="5589720"/>
                <a:ext cx="735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/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2A1D-06E6-40CC-A579-0AF5290EB0DB}" type="slidenum">
              <a:t>13</a:t>
            </a:fld>
          </a:p>
        </p:txBody>
      </p:sp>
    </p:spTree>
  </p:cSld>
  <p:transition>
    <p:random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0728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ep 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ierarchy of components: whi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use? In PCA one chooses the principal ones. In ICA one can choose the ones with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least resemblance to the Gaussian pd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816280" y="174600"/>
                <a:ext cx="13269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BBB-D4D1-4585-B0F2-9AA169723012}" type="slidenum">
              <a:t>14</a:t>
            </a:fld>
          </a:p>
        </p:txBody>
      </p:sp>
    </p:spTree>
  </p:cSld>
  <p:transition>
    <p:random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1360" y="3933720"/>
            <a:ext cx="889344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incipal component is    , thus according to PCA one chooses a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e projection of      into      . According to ICA, one chooses a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ff33cc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jection on     . This is the least Gaussian. Inde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 -1.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  0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serve that across     , the statistics is </a:t>
            </a:r>
            <a:r>
              <a:rPr b="0" lang="en-US" sz="2200" spc="-1" strike="noStrike">
                <a:solidFill>
                  <a:srgbClr val="3333cc"/>
                </a:solidFill>
                <a:latin typeface="Verdana"/>
              </a:rPr>
              <a:t>bimod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That is, no resemblance to Gaussi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072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Example</a:t>
            </a:r>
            <a:r>
              <a:rPr b="0" lang="el-GR" sz="2400" spc="-1" strike="noStrike">
                <a:solidFill>
                  <a:srgbClr val="00cc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71760" y="44280"/>
            <a:ext cx="5616720" cy="381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796000" y="4437000"/>
                <a:ext cx="411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α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788000" y="422100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356000" y="3933720"/>
                <a:ext cx="379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α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796000" y="4149720"/>
                <a:ext cx="384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α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276720" y="5877000"/>
                <a:ext cx="409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α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525-0915-4721-81D9-D0DDCEC5178A}" type="slidenum">
              <a:t>15</a:t>
            </a:fld>
          </a:p>
        </p:txBody>
      </p:sp>
    </p:spTree>
  </p:cSld>
  <p:transition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0728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asic steps in the pro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trace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l-G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{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tha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maxim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olution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 the matrix that diagonaliz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multaneous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c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i.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I , B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ℓxℓ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ℓxℓ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ago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ctr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055-FC6B-4FD9-A391-5A75EF4576EB}" type="slidenum">
              <a:t>2</a:t>
            </a:fld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0728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3" marL="1504080" indent="-21456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AB</a:t>
            </a:r>
            <a:r>
              <a:rPr b="0" lang="en-US" sz="2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xℓ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.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ximiz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a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igenvalue-eigenve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blem. For a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problem,      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s of rank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choo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consi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eigenvectors, corresponding to the non-zero eigenval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 algn="just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e above guarantees maximu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value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is ca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two-class problem, this results to the well known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isher’s linear discrimin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 algn="just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Gaussian classes, this is the optimal Bayesian classifier, with a difference of a threshold value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284720" y="779400"/>
                <a:ext cx="21589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b</m:t>
                            </m:r>
                          </m:sub>
                        </m:sSub>
                      </m:e>
                    </m:d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048280" y="1844640"/>
                <a:ext cx="8650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049720" y="3070080"/>
                <a:ext cx="12369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067280" y="5013360"/>
                <a:ext cx="2465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sSubSup>
                      <m:e>
                        <m:r>
                          <m:t xml:space="preserve">S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sub>
                        </m:sSub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1F3D-4C49-4997-B236-66BCBD1A3039}" type="slidenum">
              <a:t>3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0728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&lt;M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choos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genvectors corresponding to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st eigenvect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is cas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is there is loss of in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eometric interpret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e vector   i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oj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     onto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space spann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igenve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          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278840" y="2003400"/>
                <a:ext cx="2919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792600" y="2360520"/>
                <a:ext cx="264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110120" y="2679840"/>
                <a:ext cx="8650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F55-1660-4EE5-861E-E923EEDAF766}" type="slidenum">
              <a:t>4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cipal Compon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he Karhunen – Loève transform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: Given an original set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asurement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n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orthogo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o that the elements of    ar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optimally mutually uncorrela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ketch of the pro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8172360" y="1125360"/>
                <a:ext cx="9716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843280" y="1557360"/>
                <a:ext cx="8398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ℓ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187880" y="2060640"/>
                <a:ext cx="10335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740720" y="2781360"/>
                <a:ext cx="2649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281400" y="4205160"/>
                <a:ext cx="28400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110040" y="5343480"/>
                <a:ext cx="49910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B15-20FB-478B-8763-DADC94419D0E}" type="slidenum">
              <a:t>5</a:t>
            </a:fld>
          </a:p>
        </p:txBody>
      </p:sp>
    </p:spTree>
  </p:cSld>
  <p:transition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hosen so that its columns     are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orthogonal eigenve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iago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elements the respectiv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eigenvalues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serve that this i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ffic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dition but not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ecess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It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impos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pecific orthogo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ructure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roperties of the sol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ean Square Error approxim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e to the orthogonalit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093080" y="320760"/>
                <a:ext cx="3315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078440" y="1073160"/>
                <a:ext cx="22809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132000" y="4896000"/>
                <a:ext cx="377028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BF7-5051-4005-A737-C89A097432F9}" type="slidenum">
              <a:t>6</a:t>
            </a:fld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just">
              <a:spcBef>
                <a:spcPts val="550"/>
              </a:spcBef>
              <a:buClr>
                <a:srgbClr val="000000"/>
              </a:buClr>
              <a:buSzPct val="105000"/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spcBef>
                <a:spcPts val="550"/>
              </a:spcBef>
              <a:buClr>
                <a:srgbClr val="000000"/>
              </a:buClr>
              <a:buSzPct val="105000"/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Karhunen – Loève transform minimizes the square err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rror 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can be also shown that this i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minimum mean square error compared to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other representation of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by an </a:t>
            </a:r>
            <a:r>
              <a:rPr b="0" i="1" lang="en-US" sz="2200" spc="-1" strike="noStrike">
                <a:solidFill>
                  <a:srgbClr val="ff0000"/>
                </a:solidFill>
                <a:latin typeface="Tahoma"/>
              </a:rPr>
              <a:t>ℓ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-dimensional ve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449600" y="476280"/>
                <a:ext cx="16700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ℓ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708360" y="2133720"/>
                <a:ext cx="35370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ℓ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278240" y="3328920"/>
                <a:ext cx="25257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ℓ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BCE-C86E-4825-ABF4-21B3F0E8397E}" type="slidenum">
              <a:t>7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just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other words,      i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roj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     into the subspace spanned by the principa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ℓ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igenvectors. However, for Pattern Recognition this is not the always the best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716360" y="33336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667640" y="33336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16360" y="2276640"/>
            <a:ext cx="5327640" cy="377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455-C0F1-4303-B3E9-E59DF2439D9B}" type="slidenum">
              <a:t>8</a:t>
            </a:fld>
          </a:p>
        </p:txBody>
      </p:sp>
    </p:spTree>
  </p:cSld>
  <p:transition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tal variance: It is easily seen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 Karhunen – Loève transform makes the total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vari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axim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ing     to be a zero mean multivariat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aussian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the K-L transform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aximizes the entropy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resulting     proc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635280" y="836640"/>
                <a:ext cx="2737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695760" y="2682720"/>
                <a:ext cx="2808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140360" y="4556160"/>
                <a:ext cx="2808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863880" y="3860640"/>
                <a:ext cx="22748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sub>
                        </m:sSub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F0D-7ED0-43B1-AD65-648BEFAD1574}" type="slidenum">
              <a:t>9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4T16:33:24Z</dcterms:created>
  <dc:creator>Theodore</dc:creator>
  <dc:description/>
  <dc:language>en-US</dc:language>
  <cp:lastModifiedBy>ST</cp:lastModifiedBy>
  <dcterms:modified xsi:type="dcterms:W3CDTF">2006-08-31T07:14:19Z</dcterms:modified>
  <cp:revision>159</cp:revision>
  <dc:subject/>
  <dc:title>Feature Generation</dc:title>
</cp:coreProperties>
</file>