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0B76-AB1A-4D83-B20D-05724530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5263-FEE5-4460-A32F-902D6E7C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ECDC-6E07-4DE7-8DA4-72D8F05D7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17A6-4A63-429D-B434-FF52469A9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FFBD-A6EA-45A2-B788-AC49338B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FAF5-183E-4F40-BEE6-6159CE99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0155-5A93-4CD0-8F55-6FEE52C4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94F8-32C7-4C7B-9A4B-1CA8D412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52F4-2BAD-4D21-A224-86C8ADE9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17BF-6EA4-4CD1-A8B3-19EEB875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43CD-22A9-4C04-ABEE-E42864DA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9477-7266-460E-ACC1-374991CD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41A7-0459-4282-9E32-72DD197329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CONTEXT DEPENDENT CLASSIF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68360"/>
            <a:ext cx="724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ember:  Bayes r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: The class to which a feature vect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ongs depends 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52440" indent="-2854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Its own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252440" indent="-2854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he values of the other fea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252440" indent="-2854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n existing relation among the various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252440" indent="0" algn="just">
              <a:spcBef>
                <a:spcPts val="550"/>
              </a:spcBef>
              <a:buNone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660680" y="1916280"/>
                <a:ext cx="294300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≠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C160-B2F1-4C4D-B7D8-B77A4DCA214A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093320" y="599760"/>
            <a:ext cx="657396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hannel Equ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obl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387520" y="2255760"/>
                <a:ext cx="37450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411280" y="2997360"/>
                <a:ext cx="32036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433600" y="3789360"/>
                <a:ext cx="19432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or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100240" y="4703760"/>
                <a:ext cx="33130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 equalizer  </m:t>
                    </m:r>
                    <m:r>
                      <m:t xml:space="preserve">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3035160" y="4802040"/>
            <a:ext cx="1224000" cy="35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D3C5-EC8B-4CBC-BB30-D492C8E4841B}" type="slidenum">
              <a:t>10</a:t>
            </a:fld>
          </a:p>
        </p:txBody>
      </p:sp>
    </p:spTree>
  </p:cSld>
  <p:transition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440" y="312480"/>
            <a:ext cx="657396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ree input symbols are involve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k-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k-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124000" y="1494000"/>
                <a:ext cx="2952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124000" y="2382840"/>
                <a:ext cx="237672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D48E-E4A3-4373-86D4-E9EF2E1D4E34}" type="slidenum">
              <a:t>11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63640" y="3665520"/>
            <a:ext cx="5904000" cy="314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2556000" y="44280"/>
          <a:ext cx="3784320" cy="3557520"/>
        </p:xfrm>
        <a:graphic>
          <a:graphicData uri="http://schemas.openxmlformats.org/drawingml/2006/table">
            <a:tbl>
              <a:tblPr/>
              <a:tblGrid>
                <a:gridCol w="630000"/>
                <a:gridCol w="630360"/>
                <a:gridCol w="631800"/>
                <a:gridCol w="630360"/>
                <a:gridCol w="630000"/>
                <a:gridCol w="631800"/>
              </a:tblGrid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r>
                        <a:rPr b="0" lang="el-GR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r>
                        <a:rPr b="0" lang="el-GR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r>
                        <a:rPr b="0" lang="el-GR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r>
                        <a:rPr b="0" lang="el-GR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r>
                        <a:rPr b="0" lang="el-GR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r>
                        <a:rPr b="0" lang="el-GR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r>
                        <a:rPr b="0" lang="el-GR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r>
                        <a:rPr b="0" lang="el-GR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CF3B-B75F-4D00-BF4F-4FF4286269D1}" type="slidenum">
              <a:t>12</a:t>
            </a:fld>
          </a:p>
        </p:txBody>
      </p:sp>
    </p:spTree>
  </p:cSld>
  <p:transition>
    <p:random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259920"/>
            <a:ext cx="72468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t 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itions are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06560" y="1197000"/>
            <a:ext cx="6625440" cy="4392000"/>
            <a:chOff x="1906560" y="1197000"/>
            <a:chExt cx="6625440" cy="4392000"/>
          </a:xfrm>
        </p:grpSpPr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1906560" y="1197000"/>
                  <a:ext cx="287604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k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k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2030760" y="2773080"/>
                  <a:ext cx="2078640" cy="53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k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5157000" y="2333160"/>
                  <a:ext cx="87408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5157000" y="3389400"/>
                  <a:ext cx="87408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3" name=""/>
            <p:cNvSpPr/>
            <p:nvPr/>
          </p:nvSpPr>
          <p:spPr>
            <a:xfrm flipV="1">
              <a:off x="4404240" y="2568240"/>
              <a:ext cx="54864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04240" y="3039840"/>
              <a:ext cx="54864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2124720" y="4450680"/>
                  <a:ext cx="471240" cy="47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3486240" y="3976920"/>
                  <a:ext cx="418680" cy="47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5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3362760" y="5035320"/>
                  <a:ext cx="410760" cy="46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8" name=""/>
            <p:cNvSpPr/>
            <p:nvPr/>
          </p:nvSpPr>
          <p:spPr>
            <a:xfrm flipV="1">
              <a:off x="2758680" y="4434480"/>
              <a:ext cx="501120" cy="24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58680" y="4906080"/>
              <a:ext cx="501120" cy="2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4759920" y="4564440"/>
                  <a:ext cx="1521720" cy="5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|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7136640" y="4188600"/>
                  <a:ext cx="1312200" cy="37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,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7136640" y="5245200"/>
                  <a:ext cx="1395360" cy="34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otherwise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3" name=""/>
            <p:cNvSpPr/>
            <p:nvPr/>
          </p:nvSpPr>
          <p:spPr>
            <a:xfrm flipV="1">
              <a:off x="6384600" y="4424760"/>
              <a:ext cx="573120" cy="30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84600" y="4895640"/>
              <a:ext cx="57312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096C-8903-4D08-BFC1-2998168587A7}" type="slidenum">
              <a:t>13</a:t>
            </a:fld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59920"/>
            <a:ext cx="72468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2" marL="10285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is context,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e related to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Given the current state and the transmitted bit,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, we determine the next state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he probabilit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 the state dependence mod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ransi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or all allowable trans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081160" y="3873600"/>
                <a:ext cx="28148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050920" y="4653000"/>
                <a:ext cx="18003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‖"/>
                        <m:endChr m:val="‖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μ</m:t>
                                </m:r>
                              </m:e>
                            </m:ba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902040" y="4508640"/>
                <a:ext cx="34275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μ</m:t>
                            </m:r>
                          </m:e>
                        </m:ba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μ</m:t>
                                </m:r>
                              </m:e>
                            </m:ba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A3F7-186B-48FF-AE05-FB41D3EB8D23}" type="slidenum">
              <a:t>14</a:t>
            </a:fld>
          </a:p>
        </p:txBody>
      </p:sp>
    </p:spTree>
  </p:cSld>
  <p:transition>
    <p:random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2468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1" marL="639000" indent="-2455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ise white and Gaussia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hannel impulse response    estimate to be avail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states are determined by the values of the binary variab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200" spc="-1" strike="noStrike" baseline="-25000">
                <a:solidFill>
                  <a:srgbClr val="3333cc"/>
                </a:solidFill>
                <a:latin typeface="Times New Roman"/>
              </a:rPr>
              <a:t>k-1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,…,I</a:t>
            </a:r>
            <a:r>
              <a:rPr b="0" i="1" lang="en-US" sz="2200" spc="-1" strike="noStrike" baseline="-25000">
                <a:solidFill>
                  <a:srgbClr val="3333cc"/>
                </a:solidFill>
                <a:latin typeface="Times New Roman"/>
              </a:rPr>
              <a:t>k-n+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re will b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508720" y="981000"/>
                <a:ext cx="3394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08000" y="2035080"/>
                <a:ext cx="331164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016000" y="2720880"/>
                <a:ext cx="49482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E70F-42C7-4EB9-BC1F-42C5C59922F7}" type="slidenum">
              <a:t>15</a:t>
            </a:fld>
          </a:p>
        </p:txBody>
      </p:sp>
    </p:spTree>
  </p:cSld>
  <p:transition>
    <p:random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671400"/>
            <a:ext cx="7246800" cy="54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idden Markov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channel equalization problem, the states ar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observ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can be “learned” during the training peri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w we shall assume that state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re not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observ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can only b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nferr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 the training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pplic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eech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Music Recogni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C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lind Equaliz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ioinformatic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AC12-633F-4001-B081-46133A570D6D}" type="slidenum">
              <a:t>16</a:t>
            </a:fld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267920"/>
            <a:ext cx="7437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HMM is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tochastic finite state automat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at generates the observation sequence,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assume that: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observation sequence is produced as a result of </a:t>
            </a:r>
            <a:r>
              <a:rPr b="1" lang="en-US" sz="2200" spc="-1" strike="noStrike">
                <a:solidFill>
                  <a:srgbClr val="3333cc"/>
                </a:solidFill>
                <a:latin typeface="Tahoma"/>
              </a:rPr>
              <a:t>successive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transitions between states, upon arrival at a stat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771640" y="3457440"/>
            <a:ext cx="3600720" cy="18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201B-8270-4A38-BE1A-0130FA20C696}" type="slidenum">
              <a:t>17</a:t>
            </a:fld>
          </a:p>
        </p:txBody>
      </p:sp>
    </p:spTree>
  </p:cSld>
  <p:transition>
    <p:random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44280"/>
            <a:ext cx="743760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type of modeling i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d 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onstationary</a:t>
            </a:r>
            <a:r>
              <a:rPr b="1" lang="en-US" sz="2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tochastic process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at undergo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istinc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ansitions among a set of different stationary proces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258920" y="1844640"/>
            <a:ext cx="7056360" cy="411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E12F-F8FE-486C-A8BC-69ED1DBFE1BA}" type="slidenum">
              <a:t>18</a:t>
            </a:fld>
          </a:p>
        </p:txBody>
      </p:sp>
    </p:spTree>
  </p:cSld>
  <p:transition>
    <p:random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366480"/>
            <a:ext cx="777384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 of HM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ingle coin case: Assume a coin that is tossed behind a curtain. All it is available to us is the outcome, i.e.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Assume the two states to b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also an example of a random experiment with observable states. The model is characterized by a single parameter, e.g.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te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|1)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|1)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) = 1 –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771640" y="4221000"/>
            <a:ext cx="4753080" cy="257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337B-4BDA-4DD1-897E-B689A3569D97}" type="slidenum">
              <a:t>19</a:t>
            </a:fld>
          </a:p>
        </p:txBody>
      </p:sp>
    </p:spTree>
  </p:cSld>
  <p:transition>
    <p:random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950760"/>
            <a:ext cx="724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nterrelation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man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classification to be performed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multaneous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ll avail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eature v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us, we will assume that the training vecto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occur in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equ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e after the oth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we will refer to them as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103400" y="2894040"/>
                <a:ext cx="17272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C68C-455D-4FE8-B910-C992CA1FAC69}" type="slidenum">
              <a:t>2</a:t>
            </a:fld>
          </a:p>
        </p:txBody>
      </p:sp>
    </p:spTree>
  </p:cSld>
  <p:transition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366480"/>
            <a:ext cx="777384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two-coins case: For this case, we observe a sequence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However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e have no access to know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which coin was toss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Identify one state for each coin. This is an example wher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tates are not observ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emitted from either state. The model depends on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ou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rame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|1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|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411280" y="3473280"/>
            <a:ext cx="5400720" cy="298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F33D-0CE5-423C-947D-3E171E1221AF}" type="slidenum">
              <a:t>20</a:t>
            </a:fld>
          </a:p>
        </p:txBody>
      </p:sp>
    </p:spTree>
  </p:cSld>
  <p:transition>
    <p:random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440" y="366480"/>
            <a:ext cx="81342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2" marL="1074240" indent="-214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three-coins case example is shown below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e that in all previous examples, specifying the model is equivalent to knowing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just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obability of each observa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,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be emitted from each sta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just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ransition probabilities among state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492360" y="765000"/>
            <a:ext cx="3743640" cy="360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9AFB-DDD8-46C0-90AB-E1A255EC53D5}" type="slidenum">
              <a:t>21</a:t>
            </a:fld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44280"/>
            <a:ext cx="743760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general HMM model is characterized by the following set of paramet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umber of sta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835280" y="3573360"/>
                <a:ext cx="2592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|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924200" y="2852640"/>
                <a:ext cx="2604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|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922400" y="4414680"/>
                <a:ext cx="6524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initial state probabilities,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042920" y="2205000"/>
            <a:ext cx="78501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2920" y="2133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1989000"/>
            <a:ext cx="7704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76360" y="2133720"/>
            <a:ext cx="7128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5C4B-20D2-47AD-AE4A-54D42A622CA3}" type="slidenum">
              <a:t>22</a:t>
            </a:fld>
          </a:p>
        </p:txBody>
      </p:sp>
    </p:spTree>
  </p:cSld>
  <p:transition>
    <p:random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31520" y="761760"/>
            <a:ext cx="7103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problem in Pattern Recogni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ive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ference pattern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ach described by an HMM, find the parameters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for each of them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(trainin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iven an unknown pattern, find to which one of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known pattern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tches best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(recognitio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766880" y="1351080"/>
                <a:ext cx="321300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|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0AA9-934D-4B63-ABBC-C493F6B2445A}" type="slidenum">
              <a:t>23</a:t>
            </a:fld>
          </a:p>
        </p:txBody>
      </p:sp>
    </p:spTree>
  </p:cSld>
  <p:transition>
    <p:random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31520" y="188640"/>
            <a:ext cx="7103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Recognition:  Any path meth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dels to be known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e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sequence of observation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given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observations to b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emissio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pon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rriv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successive sta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cide in favor of the mode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l-GR" sz="2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from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vailable) according to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Bayes ru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quiprobable</a:t>
            </a:r>
            <a:r>
              <a:rPr b="0" lang="el-GR" sz="2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atter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184560" y="3889440"/>
                <a:ext cx="27734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186000" y="5516640"/>
                <a:ext cx="27734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CAC6-B965-415B-9983-0B99D71C0FD2}" type="slidenum">
              <a:t>24</a:t>
            </a:fld>
          </a:p>
        </p:txBody>
      </p:sp>
    </p:spTree>
  </p:cSld>
  <p:transition>
    <p:random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31880" y="549360"/>
            <a:ext cx="739152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each model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re is more than one possible sets of successive state transitions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ach with probabi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u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the efficient computation of the above DEF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898720" y="1871640"/>
                <a:ext cx="280836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</m:e>
                        </m:nary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700360" y="4508640"/>
                <a:ext cx="388764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700360" y="5157720"/>
                <a:ext cx="41767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α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2916360" y="5013360"/>
            <a:ext cx="1224000" cy="93672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86080" y="5072040"/>
            <a:ext cx="2808360" cy="719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22560" y="6130800"/>
            <a:ext cx="112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Hist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7560" y="5989680"/>
            <a:ext cx="1851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ocal activ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537000" y="6021000"/>
            <a:ext cx="0" cy="214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586480" y="5876640"/>
            <a:ext cx="0" cy="214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11600" y="1197000"/>
                <a:ext cx="1143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F672-040B-4BDA-BC82-9EE656FEFCE5}" type="slidenum">
              <a:t>25</a:t>
            </a:fld>
          </a:p>
        </p:txBody>
      </p:sp>
    </p:spTree>
  </p:cSld>
  <p:transition>
    <p:random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440" y="1699920"/>
            <a:ext cx="73422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bserve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124000" y="5445000"/>
                <a:ext cx="223200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  <m:e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4681440" y="5445000"/>
            <a:ext cx="212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ompute this for each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042920" y="189000"/>
            <a:ext cx="6913800" cy="446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520F-C227-4A07-9615-CB95E7483C1E}" type="slidenum">
              <a:t>26</a:t>
            </a:fld>
          </a:p>
        </p:txBody>
      </p:sp>
    </p:spTree>
  </p:cSld>
  <p:transition>
    <p:random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440" y="887040"/>
            <a:ext cx="73422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more quantit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755800" y="2111400"/>
                <a:ext cx="46371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β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β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770200" y="3695760"/>
                <a:ext cx="331452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γ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α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β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74B1-9740-482F-9258-1C15D45D24CD}" type="slidenum">
              <a:t>27</a:t>
            </a:fld>
          </a:p>
        </p:txBody>
      </p:sp>
    </p:spTree>
  </p:cSld>
  <p:transition>
    <p:random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7342200" cy="54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rai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hilosophy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iven a training s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known to belong to the specific mod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stimate the unknown parameters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so that the </a:t>
            </a:r>
            <a:r>
              <a:rPr b="1" lang="en-US" sz="2200" spc="-1" strike="noStrike">
                <a:solidFill>
                  <a:srgbClr val="3333cc"/>
                </a:solidFill>
                <a:latin typeface="Tahoma"/>
              </a:rPr>
              <a:t>outp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the model, e.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o be maximiz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a ML estimation problem with missing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908000" y="2925720"/>
                <a:ext cx="22323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  <m:e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BE94-B1A8-4EAE-8AD5-46B653D7A573}" type="slidenum">
              <a:t>28</a:t>
            </a:fld>
          </a:p>
        </p:txBody>
      </p:sp>
    </p:spTree>
  </p:cSld>
  <p:transition>
    <p:random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440" y="764640"/>
            <a:ext cx="7342200" cy="54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ption:  Data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screte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i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584360" y="1341360"/>
                <a:ext cx="41036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⇒</m:t>
                    </m:r>
                    <m:r>
                      <m:t xml:space="preserve">p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|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P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|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149560" y="2925720"/>
                <a:ext cx="599760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β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038320" y="4187880"/>
                <a:ext cx="30718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β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4A5C-2DF6-42B8-A55E-64090BBE3B17}" type="slidenum">
              <a:t>29</a:t>
            </a:fld>
          </a:p>
        </p:txBody>
      </p:sp>
    </p:spTree>
  </p:cSld>
  <p:transition>
    <p:random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246800" cy="56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ntext Dependent Bayesian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  be a sequence of classes, that 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ar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tho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us, the Bayesian rule can equivalently be stated 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arkov Chain Models (for class dependen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124000" y="952560"/>
                <a:ext cx="223200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: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124000" y="1623960"/>
                <a:ext cx="20163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992240" y="2262240"/>
                <a:ext cx="384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124000" y="2655720"/>
                <a:ext cx="2305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28640" y="4672080"/>
                <a:ext cx="63183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560600" y="5967360"/>
                <a:ext cx="487044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456B-2382-4A93-AB9B-74668B9AEE6D}" type="slidenum">
              <a:t>3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7263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Algorith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itial conditions for all the unknown parame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ep 1:  From the current estimates of the model parameter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reestim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new mode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870200" y="1112760"/>
                <a:ext cx="27018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054160" y="2513160"/>
                <a:ext cx="244152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P</m:t>
                        </m:r>
                      </m:e>
                    </m:ba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|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749840" y="2833560"/>
                <a:ext cx="36273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of transitions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from 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 </m:t>
                            </m:r>
                            <m:r>
                              <m:t xml:space="preserve"> </m:t>
                            </m:r>
                            <m:r>
                              <m:t xml:space="preserve">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 of transitions 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rom 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090880" y="4078440"/>
                <a:ext cx="2873160" cy="16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P</m:t>
                        </m:r>
                      </m:e>
                    </m:bar>
                    <m:bar>
                      <m:barPr>
                        <m:pos m:val="bot"/>
                      </m:barPr>
                      <m:e>
                        <m:sSub>
                          <m:e/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nd 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→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219640" y="4475160"/>
                <a:ext cx="28814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t state 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nd 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 of being at state 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772080" y="5950080"/>
                <a:ext cx="16952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P</m:t>
                        </m:r>
                      </m:e>
                    </m:ba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DD07-DB67-47E9-982F-DA96B4360CA3}" type="slidenum">
              <a:t>30</a:t>
            </a:fld>
          </a:p>
        </p:txBody>
      </p:sp>
    </p:spTree>
  </p:cSld>
  <p:transition>
    <p:random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440" y="923400"/>
            <a:ext cx="7535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ep 3:  Comput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o to step 2.  Otherwise st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550"/>
              </a:spcBef>
              <a:buClr>
                <a:srgbClr val="00cc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Remark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-200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iteration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mprov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model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-200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converge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a maximum (local or globa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-200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 is an implementation of the EM algorith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138560" y="939960"/>
                <a:ext cx="38894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S</m:t>
                        </m:r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If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|</m:t>
                        </m:r>
                        <m:r>
                          <m:t xml:space="preserve">S</m:t>
                        </m:r>
                      </m:e>
                    </m:ba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ε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S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S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411280" y="2976480"/>
                <a:ext cx="23767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S</m:t>
                        </m:r>
                      </m:e>
                    </m:ba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S</m:t>
                        </m:r>
                      </m:e>
                    </m:ba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505B-7810-4610-BF7B-F8A58C87252A}" type="slidenum">
              <a:t>31</a:t>
            </a:fld>
          </a:p>
        </p:txBody>
      </p:sp>
    </p:spTree>
  </p:cSld>
  <p:transition>
    <p:random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440" y="115560"/>
            <a:ext cx="705492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rememb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stically mutually independen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df in one class independent of the others, th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197000" y="620640"/>
                <a:ext cx="418932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189080" y="2863800"/>
                <a:ext cx="38876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547640" y="4483080"/>
                <a:ext cx="365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548080" y="5661000"/>
                <a:ext cx="30398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5278-6C71-489E-8212-6589594D616D}" type="slidenum">
              <a:t>4</a:t>
            </a:fld>
          </a:p>
        </p:txBody>
      </p:sp>
    </p:spTree>
  </p:cSld>
  <p:transition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440" y="-243360"/>
            <a:ext cx="705492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the above, the Bayes rule is readily seen to be equivalent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, it rests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nd the above maximum in brute-force task we need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l-GR" sz="2400" spc="-1" strike="noStrike" baseline="30000">
                <a:solidFill>
                  <a:srgbClr val="000000"/>
                </a:solidFill>
                <a:latin typeface="Times New Roman"/>
              </a:rPr>
              <a:t>Ν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s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116000" y="1197000"/>
                <a:ext cx="410544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&gt;&lt;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&gt;&lt;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258920" y="3357720"/>
                <a:ext cx="417672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593F-212A-4BE8-AAC6-13988C904483}" type="slidenum">
              <a:t>5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440" y="115560"/>
            <a:ext cx="753588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Viterbi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11280" y="1274760"/>
            <a:ext cx="8064360" cy="474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126D-37D2-4716-BD2D-0BBBD4C30FAE}" type="slidenum">
              <a:t>6</a:t>
            </a:fld>
          </a:p>
        </p:txBody>
      </p:sp>
    </p:spTree>
  </p:cSld>
  <p:transition>
    <p:random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731520" y="44280"/>
            <a:ext cx="7777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us, each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rresponds to one path through the trellis diagram.  One of them is the optimum (e.g., black).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classes along the optimal path determine the classes to which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are assign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each transition corresponds a cost.  For our c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206800" y="2637000"/>
                <a:ext cx="292860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109960" y="3825720"/>
                <a:ext cx="33130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200320" y="4894200"/>
                <a:ext cx="43401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436F-EAA9-4364-BD9F-B23EABF81233}" type="slidenum">
              <a:t>7</a:t>
            </a:fld>
          </a:p>
        </p:txBody>
      </p:sp>
    </p:spTree>
  </p:cSld>
  <p:transition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31520" y="314280"/>
            <a:ext cx="7777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quivalent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 the cost up to a nod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k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233440" y="1177920"/>
                <a:ext cx="38149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n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</m:nary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D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403360" y="2475000"/>
                <a:ext cx="34005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556000" y="4059360"/>
                <a:ext cx="331128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1A59-3B7B-4A8B-9C6F-BEC993F1C377}" type="slidenum">
              <a:t>8</a:t>
            </a:fld>
          </a:p>
        </p:txBody>
      </p:sp>
    </p:spTree>
  </p:cSld>
  <p:transition>
    <p:random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440" y="836280"/>
            <a:ext cx="68626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Bellman’s princip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w sta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ptimal path terminates a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lexity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855800" y="1413000"/>
                <a:ext cx="54324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lim>
                        </m:limLow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577880" y="2708280"/>
                <a:ext cx="1954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508720" y="3573360"/>
                <a:ext cx="7920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  <m:sup/>
                    </m:sSubSup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684440" y="4292640"/>
                <a:ext cx="38304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</m:sSub>
                      </m:lim>
                    </m:limLow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E6FE-9892-45E4-B2CB-95F0305BA592}" type="slidenum">
              <a:t>9</a:t>
            </a:fld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18:14:25Z</dcterms:created>
  <dc:creator>Jim</dc:creator>
  <dc:description/>
  <dc:language>en-US</dc:language>
  <cp:lastModifiedBy>ST</cp:lastModifiedBy>
  <dcterms:modified xsi:type="dcterms:W3CDTF">2006-08-31T07:21:24Z</dcterms:modified>
  <cp:revision>601</cp:revision>
  <dc:subject/>
  <dc:title>PowerPoint Presentation</dc:title>
</cp:coreProperties>
</file>