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F60-3E5B-47DD-A68E-9341646F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01A-0DD0-435C-A1CD-538747A6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E5A-C42D-485E-B4B1-28915AF3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661-7385-4DDD-BB08-88A71F13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8D7-C39C-4580-8766-806F271C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324-42FC-439A-AFE1-BF9DB471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81B-7615-4905-B6E7-1A5D670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EB0-F65E-48B9-A7EF-A5CC2210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3A7-18ED-492A-87F7-F5A43C95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EEB-039B-4B16-B436-DC503081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25F-2FD4-452D-87A6-003017D8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6D4-CDB6-4295-85EA-52B01210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EA60-D4E0-424C-8D22-1F875B02195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1592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lustering or unsupervised learning no training data, with class labeling, are available.  The goal becomes: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roup the data into a number of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ensibl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usters (groups)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is unravels similarities and differences among the availabl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cial Sci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dic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nd Web M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erform clustering of a data set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 clustering criterion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first be adopted.  Different clustering criteria lead, in general, to different clus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269-2E29-43D2-9A6F-A8998195374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93960" y="4379760"/>
            <a:ext cx="6999120" cy="2001960"/>
            <a:chOff x="1893960" y="4379760"/>
            <a:chExt cx="6999120" cy="200196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909800" y="4379760"/>
                  <a:ext cx="698328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ℜ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&lt;+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93960" y="5797440"/>
                  <a:ext cx="40608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893960" y="5110200"/>
                  <a:ext cx="3270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MEAS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4152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tween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-199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ssimilarity meas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between vector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following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700360" y="2913120"/>
                <a:ext cx="3024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4D5-26BE-410C-90A7-0851DE828CD1}" type="slidenum">
              <a:t>10</a:t>
            </a:fld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918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 ad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tric dissimilar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08000" y="1085760"/>
            <a:ext cx="5472360" cy="1190880"/>
            <a:chOff x="1908000" y="1085760"/>
            <a:chExt cx="5472360" cy="119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908000" y="1085760"/>
                  <a:ext cx="460872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if</m:t>
                      </m:r>
                      <m:r>
                        <m:rPr>
                          <m:lit/>
                          <m:nor/>
                        </m:rPr>
                        <m:t xml:space="preserve">and</m:t>
                      </m:r>
                      <m:r>
                        <m:rPr>
                          <m:lit/>
                          <m:nor/>
                        </m:rPr>
                        <m:t xml:space="preserve">only</m:t>
                      </m:r>
                      <m:r>
                        <m:rPr>
                          <m:lit/>
                          <m:nor/>
                        </m:rPr>
                        <m:t xml:space="preserve">if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08000" y="1703520"/>
                  <a:ext cx="5472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A11-8EAA-4564-ABFA-F86EA610121F}" type="slidenum">
              <a:t>11</a:t>
            </a:fld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415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between ve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following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95320" y="2492280"/>
                <a:ext cx="6824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ℜ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+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33840" y="1052640"/>
                <a:ext cx="3028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795320" y="3860640"/>
                <a:ext cx="3943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57240" y="3141720"/>
                <a:ext cx="3146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2E9-7743-47DD-9FE1-AC8FA0DA3D8A}" type="slidenum">
              <a:t>12</a:t>
            </a:fld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8207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in add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tr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imilarity meas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tween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,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xim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similar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to satisfy the relations of dissimilarity measure between vectors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</a:rPr>
              <a:t> ‘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used in place of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imilarly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ity meas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89280" y="1052640"/>
                <a:ext cx="412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rPr>
                        <m:lit/>
                        <m:nor/>
                      </m:rPr>
                      <m:t xml:space="preserve">only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6560" y="1704960"/>
                <a:ext cx="6381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00360" y="4149720"/>
                <a:ext cx="2519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U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D39-362E-42AA-B39F-85C7805DD543}" type="slidenum">
              <a:t>13</a:t>
            </a:fld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ahoma"/>
              </a:rPr>
              <a:t>PROXIMITY MEASURES BETWEEN VECTOR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78469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similarity measures (DM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Weight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metric D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esting instances are obtaine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ighted Manhatt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ighted Euclid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2637000"/>
                <a:ext cx="37432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FD4-0E27-4FD3-8AD8-0F77A2E460B6}" type="slidenum">
              <a:t>14</a:t>
            </a:fld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9898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ther mea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 maximum and the minimum values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, among 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ependence on the current data 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612720"/>
                <a:ext cx="4176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882880"/>
                <a:ext cx="31669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534-07DD-4ED4-90CA-3CC18BE19E7C}" type="slidenum">
              <a:t>15</a:t>
            </a:fld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ity meas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Inner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Tanimoto mea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41600" y="1413000"/>
                <a:ext cx="38466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ne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47920" y="2817720"/>
                <a:ext cx="40384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40000" y="4048200"/>
                <a:ext cx="32400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9CB-903A-400C-9DB6-A945DDFCEAAF}" type="slidenum">
              <a:t>16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{0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…,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a set of symbols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…,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=[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places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symbol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symb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veral proximity measures can be expressed as combinations of the elements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similarity meas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mming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umber of places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ff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00360" y="1700280"/>
                <a:ext cx="12952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80000" y="4437000"/>
                <a:ext cx="26636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0000" y="5724360"/>
                <a:ext cx="2663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C98-EA51-435E-8852-362722C99DC1}" type="slidenum">
              <a:t>17</a:t>
            </a:fld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ity meas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animoto meas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s that ex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s that in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51280" y="533520"/>
                <a:ext cx="29527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192420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14880" y="191772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3040200"/>
                <a:ext cx="8636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96000" y="3040200"/>
                <a:ext cx="1440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716360" y="4178160"/>
                <a:ext cx="774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A9E-79F7-432B-95D8-9F7B45AF759A}" type="slidenum">
              <a:t>18</a:t>
            </a:fld>
          </a:p>
        </p:txBody>
      </p:sp>
    </p:spTree>
  </p:cSld>
  <p:transition>
    <p:random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coordinates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vector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 rest ar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scre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thods for measuring the proximity between two su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pt a proximity measure (PM) suitable for real-valued 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 the real-valued features to discrete ones and employ a discrete P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general case of mixed-valued vec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minal, ordinal, interval-scaled, ratio-scaled features are treated separat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2CF-B267-413A-917D-87C91D53E0C4}" type="slidenum">
              <a:t>19</a:t>
            </a:fld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mple 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4000" y="2008080"/>
            <a:ext cx="8623080" cy="3990600"/>
            <a:chOff x="324000" y="2008080"/>
            <a:chExt cx="8623080" cy="3990600"/>
          </a:xfrm>
        </p:grpSpPr>
        <p:sp>
          <p:nvSpPr>
            <p:cNvPr id="44" name=""/>
            <p:cNvSpPr/>
            <p:nvPr/>
          </p:nvSpPr>
          <p:spPr>
            <a:xfrm>
              <a:off x="324000" y="2008080"/>
              <a:ext cx="2643120" cy="1271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9880" y="2008080"/>
              <a:ext cx="2643120" cy="1271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02880" y="2138400"/>
              <a:ext cx="143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ue shark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eep, ca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1440" y="2133720"/>
              <a:ext cx="21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zard, sparrow, viper, seagull, gold fish, frog, red mul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37040" y="2092320"/>
              <a:ext cx="3093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wo clus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lustering criterion: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How mammals bear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their progen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317840"/>
              <a:ext cx="2643120" cy="1271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79880" y="4317840"/>
              <a:ext cx="2643120" cy="1271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1040" y="4626000"/>
              <a:ext cx="168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ld fish, red mullet, blue sh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13600" y="4508640"/>
              <a:ext cx="204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eep, sparrow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g, cat, seagull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zard, frog, vi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29200" y="4564080"/>
              <a:ext cx="3017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wo clus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lustering criterion: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Existence of lung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7FF-B17B-4710-A58B-93EF8BC37AF6}" type="slidenum">
              <a:t>2</a:t>
            </a:fld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milarity function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above defini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f at least on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undefined or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equal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Otherwi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binar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nominal or ordinal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q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interval or ratio scaled-valu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interval whe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the vectors of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59280" y="4365720"/>
                <a:ext cx="3816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|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627280" y="549360"/>
                <a:ext cx="33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160-388B-46E3-A071-9EC5BC1DB991}" type="slidenum">
              <a:t>20</a:t>
            </a:fld>
          </a:p>
        </p:txBody>
      </p:sp>
    </p:spTree>
  </p:cSld>
  <p:transition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260280"/>
            <a:ext cx="8569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re the value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coordinate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s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the outcome of a measuring devi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r the coordin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the more likely the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ses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oes not possess)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characteris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pproach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certainty about the possession or not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feature fr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rea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ossible similarity measure that can quantify the above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92360" y="4113360"/>
                <a:ext cx="504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92360" y="4941720"/>
                <a:ext cx="29509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826920" y="40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8A6-C237-41A8-9066-5BC354ABB51D}" type="slidenum">
              <a:t>21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s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some vectors of the data se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some features values are 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ays to face the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ard all vectors with missing values (not recommended for small data s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mean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avail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 values over that data set and substitute the mis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 value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-t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vailable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. Th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PM  between two scala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average proximiti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all feature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ong all components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f bo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vailable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25600" y="3602160"/>
                <a:ext cx="3254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76720" y="5513400"/>
                <a:ext cx="2016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63A-2DEC-409D-B3F4-EC248B258CBA}" type="slidenum">
              <a:t>22</a:t>
            </a:fld>
          </a:p>
        </p:txBody>
      </p:sp>
    </p:spTree>
  </p:cSld>
  <p:transition>
    <p:random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FUNCTIONS BETWEEN A VECTOR AND A S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89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 points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contribute to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050920" y="3141720"/>
                <a:ext cx="3241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2720" y="4357800"/>
                <a:ext cx="30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22560" y="5589720"/>
                <a:ext cx="28810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℘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292720" y="573408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rdina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8B0-9118-4454-9F5F-3C91C4BF519C}" type="slidenum">
              <a:t>23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 representative(s)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contributes to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: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representatives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an ve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an cen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dian cen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ther representatives (e.g., hyperplanes, hyperspheres) ar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in certain applications (e.g., object identification us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techniqu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08000" y="2100240"/>
                <a:ext cx="1727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35120" y="3533760"/>
                <a:ext cx="45925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: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28640" y="4724280"/>
                <a:ext cx="7947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med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ed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500720" y="2205000"/>
            <a:ext cx="46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rdinality 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2843280"/>
            <a:ext cx="223200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: a dissimilarity mea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788000" y="3213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132000" y="2852640"/>
            <a:ext cx="360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87280" y="3645000"/>
            <a:ext cx="381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11640" y="3645000"/>
            <a:ext cx="1081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955-8E51-4E0A-B94A-1B10072E9902}" type="slidenum">
              <a:t>24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FUNCTIONS BETWEEN SE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407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ints of each set contribute to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measure bu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ric, only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imilarity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measure bu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ric, only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dissimilarity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measure, even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08000" y="3057480"/>
                <a:ext cx="3888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8000" y="4624560"/>
                <a:ext cx="3743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79640" y="5805360"/>
                <a:ext cx="3887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℘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DDA-959D-4FD4-9223-0EE3BA1F8A3A}" type="slidenum">
              <a:t>25</a:t>
            </a:fld>
          </a:p>
        </p:txBody>
      </p:sp>
    </p:spTree>
  </p:cSld>
  <p:transition>
    <p:random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represented by its representative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 proximity function (it is a measure provided that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measure)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ximity functions between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derived from the above functions if we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050920" y="2495520"/>
                <a:ext cx="2737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℘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351080" y="3273480"/>
                <a:ext cx="3384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℘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EBF-9D40-4543-A1DD-98B53EA43F34}" type="slidenum">
              <a:t>26</a:t>
            </a:fld>
          </a:p>
        </p:txBody>
      </p:sp>
    </p:spTree>
  </p:cSld>
  <p:transition>
    <p:random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72072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oices of proximity functions between sets may lead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tally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measures between vectors in the same proximity function between sets may lead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tally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nly way to achieve a proper clustering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y trial and err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aking into account the opinion of an expert in the field of appl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6BD-A8EF-4A59-96C7-F51D6717478F}" type="slidenum">
              <a:t>27</a:t>
            </a:fld>
          </a:p>
        </p:txBody>
      </p:sp>
    </p:spTree>
  </p:cSld>
  <p:transition>
    <p:random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ing task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 Selection: Information rich features-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arsimon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ximity Measure:  This quantifies the term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 or dissimil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Criterion:  This consists of a cost function or some type of ru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Algorithm:  This consists of the set of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e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lowed to reveal the structure, based o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the adopt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riter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idation of the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retation of the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E6B-F3E2-4997-BBB6-02641337C48E}" type="slidenum">
              <a:t>3</a:t>
            </a:fld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pending on the similarity measure, the clustering criterion and the clustering algorithm different clusters may result. 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ubjectivit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is a reality to live with from now 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mple example:  How many clusters?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47640" y="3068640"/>
            <a:ext cx="5567040" cy="1349280"/>
            <a:chOff x="1547640" y="3068640"/>
            <a:chExt cx="5567040" cy="1349280"/>
          </a:xfrm>
        </p:grpSpPr>
        <p:sp>
          <p:nvSpPr>
            <p:cNvPr id="57" name=""/>
            <p:cNvSpPr/>
            <p:nvPr/>
          </p:nvSpPr>
          <p:spPr>
            <a:xfrm>
              <a:off x="1547640" y="3068640"/>
              <a:ext cx="2590560" cy="1349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23760" y="3123000"/>
              <a:ext cx="2590920" cy="129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68360" y="3141720"/>
            <a:ext cx="4222080" cy="1242720"/>
            <a:chOff x="2268360" y="3141720"/>
            <a:chExt cx="4222080" cy="1242720"/>
          </a:xfrm>
        </p:grpSpPr>
        <p:sp>
          <p:nvSpPr>
            <p:cNvPr id="60" name=""/>
            <p:cNvSpPr/>
            <p:nvPr/>
          </p:nvSpPr>
          <p:spPr>
            <a:xfrm>
              <a:off x="2268360" y="314172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8360" y="379044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44120" y="379044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44120" y="3196440"/>
              <a:ext cx="1246320" cy="54036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380360" y="35733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 or 4 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83B-DF7C-4535-9C81-07CA819E4672}" type="slidenum">
              <a:t>4</a:t>
            </a:fld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application areas for clust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reduction. All data vectors within a cluster are substituted (represented) by the corresponding cluster represent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ypothesis gen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ypothesis test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ion based on grou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3FD-76E8-4D1A-94D5-AFC71DAC9960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-27360"/>
            <a:ext cx="734220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 algn="just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Cluster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Each point belongs to a single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cluste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defined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art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ts (clusters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 addition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ata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mo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imil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each other an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ess simil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the data in the rest of the clusters.  Quantifying the terms similar-dissimilar depends on the types of clusters that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nderlie the struc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84360" y="690480"/>
                <a:ext cx="2509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56000" y="2646360"/>
                <a:ext cx="2592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∅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7280" y="3282840"/>
                <a:ext cx="12952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U</m:t>
                            </m:r>
                          </m:e>
                          <m:lim>
                            <m:r>
                              <m:t xml:space="preserve">m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63840" y="4221000"/>
                <a:ext cx="5367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0C3-C9BC-4044-B85E-A3D0871DC57E}" type="slidenum">
              <a:t>6</a:t>
            </a:fld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Each point belongs to all clusters up to som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egr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uzzy cluster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s is characterized b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50920" y="2435400"/>
                <a:ext cx="3600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0920" y="2881440"/>
                <a:ext cx="31608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24000" y="3699000"/>
                <a:ext cx="3600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0C7-FF5C-452F-8A73-755D04A4E9B8}" type="slidenum">
              <a:t>7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79640" y="2997360"/>
                <a:ext cx="4765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lose  to  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high grade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mbership of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cluster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22480" y="4076640"/>
                <a:ext cx="3875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lose  to  0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grade of membershi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619280" y="2708280"/>
            <a:ext cx="5329080" cy="27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56000" y="1844640"/>
                <a:ext cx="3136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116000" y="596880"/>
            <a:ext cx="66247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mbership funct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each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elongs to any cluster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p to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ome degree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”, depending on the 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D74-F752-4116-9247-B82017CF24CB}" type="slidenum">
              <a:t>8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YPES OF FEAT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respect to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tinuou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 domain is a continuous subse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cre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 domain is a finite discrete se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ina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ichotomous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domain consists of two possible valu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respect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ve significance of the values they 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values code states, e.g., the sex of an individua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values are meaningfully ordered, e.g., the rating of the services of a hotel (poor, good, very good, excellent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terval-sca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difference of two values is meaningful but their ratio is meaningless, e.g., temperatur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atio-sca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ratio of two values is meaningful, e.g., weigh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EA9-E7AB-47FF-BC50-A2CC87587ACE}" type="slidenum">
              <a:t>9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1T16:28:50Z</dcterms:modified>
  <cp:revision>695</cp:revision>
  <dc:subject/>
  <dc:title>PowerPoint Presentation</dc:title>
</cp:coreProperties>
</file>