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187-CA0A-4E91-BD2A-3412A381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FD-4078-42B6-A35A-B585737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F01-1124-4A4E-AB6E-E35EC9F7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21B-6541-4E1E-B672-C029C750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989-EB82-4B88-95E4-2512FC64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8AC-ECE9-4B96-BBC4-969EF47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ABC-05A6-4F2B-8BD6-E1B51F2C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1D4-733A-41B1-85F8-6DCE8A0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E30-83C0-4686-B6BB-4AFD7503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DF6-68ED-472C-8A95-2788AF9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90C-C729-4D0C-98C9-BCDD9A0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F0D-7905-47DB-B2C8-BDD6ECB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AE6F-E6C2-43D1-B628-3165919DD1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24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ing tend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cc99"/>
                </a:solidFill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lustering algorith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mpo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clustering structure to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ha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not possess a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we apply any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t must first be verified tha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ssesses a clustering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tendenc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tendency is heavily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lly, it is based on testing the randomness (null) hypothesi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and the clustering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ndomness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randomly distributed, according to the uniform distribution in the sampling window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ompact convex support set for the underlying distribution of the vectors of the data s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gularity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regularly spaced (that is they are not too close to each other) in the sampling window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m cluster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363-28D7-46BA-BEBB-AE246DF7FDD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ied Hubert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nn and Dunn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es-Bouldin (DB) and DB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clusters with point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coefficient (P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entropy coefficient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e-Beni (XB)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kuyama-Sugeno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hyper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E13-C28F-425D-9184-E584943F97CC}" type="slidenum">
              <a:t>10</a:t>
            </a:fld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shell-shaped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ell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average shell thick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865-CAC4-495F-AB86-217FD434934F}" type="slidenum">
              <a:t>11</a:t>
            </a:fld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stimated via Monte Carlo sim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ests for spatial randomness, when the input space dimensionality greater than or equal to 2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uctural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st that utilizes the idea of the minimum spanning tree (M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arest neighbor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Hopkin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Cox-Lewi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arse de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5F2-CFB6-472B-A355-1A33225CF95D}" type="slidenum">
              <a:t>2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mportant no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ing algorithms should be applied 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only if the randomness and the regularity hypotheses are rejected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, methods different than clustering must be used to describe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st studies in clustering tendency focus on the detection of compact clusters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ic steps of the clustering tendency philosoph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of a test statis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itable for the detection of clustering tend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the pdf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der the nul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are necessary for measuring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probability of making a correct decision whe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s reje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and the clustering tendency hypothe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data set at ha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xamination whether it lies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corresponds to a predetermin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vel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859-406C-4BEE-92B2-44AB061B96FB}" type="slidenum">
              <a:t>3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quel it is assumed that the clustering tendency procedure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d the existence of a clustering structur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a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appropri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s of the involved parameters, poor results may be obtained.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 the need f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rther evalu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clustering results is appar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 task that evaluat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result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ing structur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an algorithm may be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erarchy of clusterings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5B1-AF97-4E3E-9512-CF2E6AC63A50}" type="slidenum">
              <a:t>4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approached 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e possible dire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a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dependently drawn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mposed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ies that involve the vector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emselv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.g., proximity matrix)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by comparing it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ther clustering structure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application of the same clustering algorithm but with different parameter values, or other clustering algorithms,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Criteria of this kind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lative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4A2-8F89-47A6-BF1B-F59B8D7E9204}" type="slidenum">
              <a:t>5</a:t>
            </a:fld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external and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a statement of randomness concerning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eneration of a reference data population under the random hypothesis takes 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 statistic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ose values are indicative of the structure of a data set, is defined.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from our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ared against the values obtained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the elements of the reference (random) population are consid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ys for generating reference populations under the null hypothesis (ea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e used in different situation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position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graph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label hypothesi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50D-91BC-4CDF-850A-D92192514A4B}" type="slidenum">
              <a:t>6</a:t>
            </a:fld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ex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comparison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n independently drawn partitio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ccar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wlkes-Mallow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bert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ssessing the agreement betwee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proxim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hierarchy of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henetic correlat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PC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udall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individual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B36-9CD7-4F51-8F6C-2F62EC0FD147}" type="slidenum">
              <a:t>7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set of parameter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ement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mong the clusterings produced by a specific clustering algorithm, for different values of the parameters i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oose the one that best fits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 consider two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no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for a wide range of values of its parame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number of cluster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ersus the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widest range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e values of the parameters i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at lie in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ddl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of this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E6C-DD71-4C7F-B259-33EE640FB78D}" type="slidenum">
              <a:t>8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b)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suitable performance inde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best clustering is identified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using different sets of values for the other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ach time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clustering that corresponds to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bes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senc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e number of clusters underl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a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uch a knee 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sess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E46-045B-4562-AA88-44D94D88AA4B}" type="slidenum">
              <a:t>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44:24Z</dcterms:modified>
  <cp:revision>937</cp:revision>
  <dc:subject/>
  <dc:title>PowerPoint Presentation</dc:title>
</cp:coreProperties>
</file>