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F19-1CB1-40CB-AD2D-46FB85F8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2AD-DAFD-4EE5-81EF-F441103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E9D-D1DC-4A25-9200-AB763F8C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3B5-D8D6-4930-9AE9-E6BD9101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6FE-7B27-46BC-97E8-59D458C0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BAD-B409-4B26-86E8-B142625D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1A6-8075-42E0-B14A-F01DC3C9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C19-00AB-461E-822D-EE1EFF07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9F1-6E92-4D6B-9EEA-55333B2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A15-0EEB-472F-A228-1706E8F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4F5-658A-4606-8210-36FD992D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A98-89B3-4B5A-BE1B-AA8F5BC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A5E-D4B8-4BC5-BF37-1B5A7C499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0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ossible cluste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: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how many way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igned into m group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95640" y="3205080"/>
                <a:ext cx="4176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06560" y="4870440"/>
                <a:ext cx="2665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8000" y="5300640"/>
                <a:ext cx="338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232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rPr>
                        <m:lit/>
                        <m:nor/>
                      </m:rPr>
                      <m:t xml:space="preserve">9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06560" y="5713560"/>
                <a:ext cx="28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271-6502-4AD3-B75F-6CF82197343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BSAS, a modification of B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a decision for a data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, which is determined after all vectors have been presented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deals with the above drawback,  at the cost of presenting the data twice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determin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the same as BSAS with the exception that no vector is assigned to an already formed cluster. At the end of this phase, each cluster consists of a single el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ttern classific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each one of the unassigned vector is assigned to its closest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BSAS, a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ring the pattern classification phase is reached taking into account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is  sensitive to the order of presentation of the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requires two passe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C5D-E42A-49C2-81B5-B1F27F7B0619}" type="slidenum">
              <a:t>10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maxmi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all points that have been chosen to form clusters up to the current iteration step.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mation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max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a prespecified threshold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vector forms a new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 determination phase of the algorithm termin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formation of the clusters, each unassigned vector is assigned to its closest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331-D415-48FF-A020-92F3206CC447}" type="slidenum">
              <a:t>11</a:t>
            </a:fld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90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xmin algorithm is more computationally demanding than M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is expected to produce better clustering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82D-4522-4DC9-B4ED-AB88FCED1563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inement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seness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all the above algorithms it may happen that two formed clusters lie very close to each 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merg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,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≠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\{ </a:t>
            </a:r>
            <a:r>
              <a:rPr b="0" i="1" lang="en-US" sz="2000" spc="-1" strike="noStrike">
                <a:solidFill>
                  <a:srgbClr val="cccc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cccc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cccc00"/>
                </a:solidFill>
                <a:latin typeface="Tahoma"/>
              </a:rPr>
              <a:t> is a user-defined threshol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the cluster represent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ame the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=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679-860E-4C03-818E-0326E9CC512F}" type="slidenum">
              <a:t>13</a:t>
            </a:fld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nsitivity to the order of data presen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have been assigned to a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t the current stage but another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be formed at a later stage that lies closer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reassignment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\{ 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 is the index of the cluster that lies closet to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: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023-00BF-4895-AA6B-475896722ACF}" type="slidenum">
              <a:t>14</a:t>
            </a:fld>
          </a:p>
        </p:txBody>
      </p:sp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two-threshold sequential scheme (TT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rmation of the clusters, as well as the assignment of vectors to clusters, is carried out concurrently (like BSAS and unlike MBSA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hreshol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mplo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its closest clust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form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ign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cision is postponed to a later s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nassigned vectors are presented iteratively to the algorithm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until all of them are class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4A4-C722-4EF3-8B0D-57197BC43F60}" type="slidenum">
              <a:t>15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ractice, a few pass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f the data set are requir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TSAS is less sensitive to the order of data presentation, compared to 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F0C-06B9-4F0C-BEAE-0AEE3150EE88}" type="slidenum">
              <a:t>16</a:t>
            </a:fld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only a small fraction of clustering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elect a “sensible” clustering among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1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ich fraction of clusterings is consider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2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at “sensible” mea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nswer depends on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ustering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riteri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64B-2C31-4AF7-BC64-5B2EE30EE3A4}" type="slidenum">
              <a:t>2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JOR CATEGORIES OF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tial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ngle clustering is produced. One or few sequential passes on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erarchical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sequence of (nested) clusterings is produc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gglomer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rix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ph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ions of the abov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Chameleon algorith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E69-F469-4AD1-BA78-2B1670BCA786}" type="slidenum">
              <a:t>3</a:t>
            </a:fld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st function optimization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most of the cases a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is obtai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exclusively to a single clus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hard clustering algorithms (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a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nch and b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dary de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 see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to more than one clusters simultaneousl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is based on th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oss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to belong to a clust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14D-2735-4A1E-824A-E6D9F1C202C1}" type="slidenum">
              <a:t>4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ther schem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gorithms based on graph the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Minimum Spanning Tree, regions of influence, directed tre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ve learning algorithms (basic competitive learning scheme, Kohonen self organizing map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pace clustering algorith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morpholog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8ED-443D-43F4-B8CB-7A57D18BA6FB}" type="slidenum">
              <a:t>5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0840" y="1341360"/>
            <a:ext cx="75358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mon traits shared by  these algorithm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or very few passes on the data are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is not known a-priori, except (possibly) an upper bou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s are defined with the aid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ly defined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from a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reshol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the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EQUENTIAL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848-7BDE-4E38-84EA-9339F23B3E16}" type="slidenum">
              <a:t>6</a:t>
            </a:fld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ic Sequential Clustering Algorithm (B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\{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number of clus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\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necessary, update representatives (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*) When the mean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 as representative of the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the updating in the light of a new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22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4DC-A1E7-480C-9F5E-148E6E6C22E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 of presentation of the 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algorithm plays important role in the clustering results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order of presentation may lead to totally different clustering resul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 terms of the number of clusters as well as the clusters themsel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the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AS perform a single pas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lusters are represented by point representatives, compact clusters are favo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E9F-A537-4065-A560-807EAA83CCF4}" type="slidenum">
              <a:t>8</a:t>
            </a:fld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stimating the number of clusters in the data se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 when the dissimilarity threshold i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time presenting the data in a different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s the most frequent number resulting from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dentify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one corresponding to the widest flat region in the abov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44720" y="3933720"/>
          <a:ext cx="698328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3933720"/>
                    <a:ext cx="6983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523280" y="6446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506-1143-4363-8ADA-80460B6F87E1}" type="slidenum">
              <a:t>9</a:t>
            </a:fld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31:41Z</dcterms:modified>
  <cp:revision>629</cp:revision>
  <dc:subject/>
  <dc:title>PowerPoint Presentation</dc:title>
</cp:coreProperties>
</file>