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CE8-36DB-4475-96BA-429EB6D6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E089-F2E7-4CFA-BDD0-57964A7B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974F-F068-4688-B84A-61A23783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12A-FFAA-41B0-BB63-8149517E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DB5-97C4-4F94-83BD-7B388E01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1C26-7AC5-4AAF-8B70-C540E744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590-4385-4D64-B25A-564333C9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10A-7645-4DC4-9281-68DA6159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5CE-1001-4401-AE07-E8463FD7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393E-98B4-4BC5-89A1-3F965E03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325-28AC-4D7A-84EF-A515205F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E84-C0C8-4164-AD1C-12266F87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A26D-6D37-4646-8C04-2DFAC4F4DB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LUSTERING ALGORITHMS VIA FUNCTION OPTIMIZATION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8544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is context th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lusters are assumed to be described by a parametric  specific model whose parameters are unknow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all parameters are included in a vector denoted by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act cluster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ach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epresented by a poin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imensional space. Thus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ing-shaped cluster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ach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modeled by a hypersp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its center and its radius, respectively. Thu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defined as a function of the data vector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Optimization of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ff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ults in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l-GR" sz="2000" spc="-1" strike="noStrike" u="sng">
                <a:solidFill>
                  <a:srgbClr val="ff0000"/>
                </a:solidFill>
                <a:uFillTx/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that characterizes optimally the clusters underlying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priori known in most of the c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FE5-7B3E-44F0-805B-07D1DB95ED71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7640" y="44280"/>
            <a:ext cx="8785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) The same as (a) but now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1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clusters are close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789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usion matri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916360" y="4005360"/>
          <a:ext cx="5113080" cy="1944720"/>
        </p:xfrm>
        <a:graphic>
          <a:graphicData uri="http://schemas.openxmlformats.org/drawingml/2006/table">
            <a:tbl>
              <a:tblPr/>
              <a:tblGrid>
                <a:gridCol w="1728360"/>
                <a:gridCol w="1079640"/>
                <a:gridCol w="1152360"/>
                <a:gridCol w="115272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st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r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-171720" y="6021360"/>
            <a:ext cx="85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algorithm reveals the underlying structure less accurate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2360" y="765000"/>
            <a:ext cx="6048360" cy="2702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132000" y="414972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33987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data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429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s of GM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26EE-F2D9-4A94-A6C4-9BF6C7D9AC9A}" type="slidenum">
              <a:t>10</a:t>
            </a:fld>
          </a:p>
        </p:txBody>
      </p:sp>
    </p:spTree>
  </p:cSld>
  <p:transition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9600" y="404280"/>
            <a:ext cx="89251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vect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belongs simultaneously to more than one clust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-clustering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s defined by a set of func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{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ard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-clustering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produc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gree of membershi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It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ssumed to be know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prior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FA3-4878-49E9-A7A0-A864949B6D65}" type="slidenum">
              <a:t>11</a:t>
            </a:fld>
          </a:p>
        </p:txBody>
      </p:sp>
    </p:spTree>
  </p:cSld>
  <p:transition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st function defin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 the representative vector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=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 the dissimilarity between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a parameter call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ifi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386-38C5-4304-B145-2E543B60AD5D}" type="slidenum">
              <a:t>12</a:t>
            </a:fld>
          </a:p>
        </p:txBody>
      </p:sp>
    </p:spTree>
  </p:cSld>
  <p:transition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71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fuzzy clustering schemes result from the minimization of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 to the constrain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  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N,  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340000" y="1366920"/>
                <a:ext cx="30240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354560" y="2125800"/>
                <a:ext cx="26654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Sup>
                          <m:e/>
                          <m:sub/>
                          <m:sup/>
                        </m:sSub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627280" y="4341960"/>
                <a:ext cx="31687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&lt;</m:t>
                    </m:r>
                    <m:r>
                      <m:t xml:space="preserve">N</m:t>
                    </m:r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276C-EFE3-4C79-B785-D202162D7933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egree of membership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uster is related to the grade of membership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r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no fuzzy clustering is better than the best hard clustering in term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re are fuzzy clusterings with lower values of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n the best hard cluste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E2F-8B07-4CE4-9E44-9E660FE78A71}" type="slidenum">
              <a:t>14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inimizing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3333cc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a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ubject to the constraints leads to the following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Lagrangian function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obt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ting the gradien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qual to zero we obtain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ast two equations ar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upl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us, no closed form solutions are expected. Therefore,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inimization is carried out iterative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124000" y="1603440"/>
                <a:ext cx="41036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an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ι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m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905120" y="2852640"/>
                <a:ext cx="47545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bar>
                                              <m:barPr>
                                                <m:pos m:val="bot"/>
                                              </m:bar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ba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bar>
                                              <m:barPr>
                                                <m:pos m:val="bot"/>
                                              </m:barPr>
                                              <m:e>
                                                <m:r>
                                                  <m:t xml:space="preserve">θ</m:t>
                                                </m:r>
                                              </m:e>
                                            </m:ba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r>
                                          <m:t xml:space="preserve">d</m:t>
                                        </m:r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bar>
                                              <m:barPr>
                                                <m:pos m:val="bot"/>
                                              </m:bar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ba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bar>
                                              <m:barPr>
                                                <m:pos m:val="bot"/>
                                              </m:barPr>
                                              <m:e>
                                                <m:r>
                                                  <m:t xml:space="preserve">θ</m:t>
                                                </m:r>
                                              </m:e>
                                            </m:ba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q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</m:den>
                    </m:f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124000" y="4797360"/>
                <a:ext cx="41036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B306-D3D9-428A-92DD-175F69B45B9A}" type="slidenum">
              <a:t>15</a:t>
            </a:fld>
          </a:p>
        </p:txBody>
      </p:sp>
    </p:spTree>
  </p:cSld>
  <p:transition>
    <p:random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08000" y="73080"/>
            <a:ext cx="8856720" cy="65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eneralized Fuzzy Algorithmic Scheme (GF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initial estimate for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 updatin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ol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set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is sol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il a termination criterion is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414520" y="2060640"/>
                <a:ext cx="31654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d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556000" y="4724280"/>
                <a:ext cx="2736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A53-82E2-4FFB-89C4-4A0CE631A35F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andidate termination condition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||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ny vector norm a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user-defined const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FAS may also be initialized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tead of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start iterations with computing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r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 poin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incides with one or more representatives, then it is shared arbitrarily among the clusters whose representatives coincide with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ubject to the constraint that the summation of the degree of membership over all clusters sums 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33F-A813-4D8E-8395-19E68E9924EE}" type="slidenum">
              <a:t>17</a:t>
            </a:fld>
          </a:p>
        </p:txBody>
      </p:sp>
    </p:spTree>
  </p:cSld>
  <p:transition>
    <p:random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0320" y="0"/>
            <a:ext cx="8923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Point Represent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 representatives are used in the case of compact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ist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arame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dissimilarity meas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tween two points can be u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on choice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symmetric and positive definite matrix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is cas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2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the updating equation (B) in GFAS beco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FAS with the above distance is also known a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-Means (FCM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k-Mea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CM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nverg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a stationary point of the cost function or it has at least one subsequence that converges to a stationary point. This point may be a local (or global) minimum or a saddle poi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835280" y="4167360"/>
                <a:ext cx="3816360" cy="48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/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87A-45C1-42D0-9DFC-54DAD5B29ECC}" type="slidenum">
              <a:t>18</a:t>
            </a:fld>
          </a:p>
        </p:txBody>
      </p:sp>
    </p:spTree>
  </p:cSld>
  <p:transition>
    <p:random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Point representatives 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inkowsk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positive integer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n and fini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differentiability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guaranteed. 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ase the updating equation (B) of GFAS giv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ystem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onlinear equations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FAS algorithms with the Minkowski distance are also known a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pFC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gorith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050920" y="3284640"/>
                <a:ext cx="4033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r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r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|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k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jk</m:t>
                                            </m:r>
                                          </m:sub>
                                        </m:sSub>
                                        <m:sSup>
                                          <m:e>
                                            <m:r>
                                              <m:t xml:space="preserve">|</m:t>
                                            </m:r>
                                          </m:e>
                                          <m:sup>
                                            <m:r>
                                              <m:t xml:space="preserve">p</m:t>
                                            </m:r>
                                          </m:sup>
                                        </m:sSup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/>
                          <m:sub/>
                          <m:sup/>
                        </m:sSubSup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340000" y="907920"/>
                <a:ext cx="259236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  <m:e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k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265-CDEA-4677-86D0-6E35B1301CBF}" type="slidenum">
              <a:t>19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 optimization clustering algorithms considered in the sequ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ture decomposition sche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zzy clustering algorith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stic clustering algorith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DD9-67B3-4358-A025-28753FD02CCD}" type="slidenum">
              <a:t>2</a:t>
            </a:fld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Point representatives 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2(a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the setup of example 1(a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GFAS with dista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38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ing the identity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38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38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i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it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38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38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ii) The Minkowski distance wit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2(b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the setup of example 1(b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GFAS with the distances considered in example 2(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91280" y="2276640"/>
                <a:ext cx="151272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FF50-0A46-40F7-93A8-05C6F84E928B}" type="slidenum">
              <a:t>20</a:t>
            </a:fld>
          </a:p>
        </p:txBody>
      </p:sp>
    </p:spTree>
  </p:cSld>
  <p:transition>
    <p:random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040" y="189000"/>
            <a:ext cx="89233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rresponding confusion matrices for example 2(a) and 2(b) are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re a vector is assigned to the cluster for whic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has the maximum value.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the example 2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the example 2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example 2(a)) almost all vectors from the same distribution are assigned to the same clus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loser the clusters are, the worse the performance of all the algorithm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hoice of matrix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lays an important role to the performance of the algorith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826920" y="2828880"/>
                <a:ext cx="648180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</m:mr>
                      <m:mr>
                        <m:e>
                          <m:r>
                            <m:t xml:space="preserve">A</m:t>
                          </m:r>
                          <m:sSub>
                            <m:e>
                              <m:r>
                                <m:t xml:space="preserve">'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6</m:t>
                                    </m:r>
                                  </m:e>
                                  <m:e>
                                    <m:r>
                                      <m:t xml:space="preserve">3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7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9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3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7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r>
                            <m:t xml:space="preserve">A</m:t>
                          </m:r>
                          <m:sSub>
                            <m:e>
                              <m:r>
                                <m:t xml:space="preserve">'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9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9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8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8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r>
                            <m:t xml:space="preserve">A</m:t>
                          </m:r>
                          <m:sSub>
                            <m:e>
                              <m:r>
                                <m:t xml:space="preserve">'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i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1</m:t>
                                    </m:r>
                                  </m:e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6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7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2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3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33400" y="1212840"/>
                <a:ext cx="647532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8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4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9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3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6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5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5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9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8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i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6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4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9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5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  <m:mr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EA09-56E7-436B-B89D-DFE41196DA64}" type="slidenum">
              <a:t>21</a:t>
            </a:fld>
          </a:p>
        </p:txBody>
      </p:sp>
    </p:spTree>
  </p:cSld>
  <p:transition>
    <p:random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re the representatives ar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quadric surfa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hyperellipsoids,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perparaboloid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4200" indent="-301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eneral form of an equation describing a quadric surfac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4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x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ymmetric matrix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cto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calar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various choices of these quantities we obtain hyperellipses, hyperparabolas and so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)/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4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4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above representation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equival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3A02-D1A4-4C3B-8852-AF6AC99F3510}" type="slidenum">
              <a:t>22</a:t>
            </a:fld>
          </a:p>
        </p:txBody>
      </p:sp>
    </p:spTree>
  </p:cSld>
  <p:transition>
    <p:random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2320" y="115560"/>
            <a:ext cx="88520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irst concer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“Definition of the distance of a poi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to a quadric surfa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ypes of dista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quared)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lgebraic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q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erpendicular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 to the constra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words,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Q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s the distance between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and the closest to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point that lies i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333-C26F-4FFE-8F56-E74B448434E0}" type="slidenum">
              <a:t>23</a:t>
            </a:fld>
          </a:p>
        </p:txBody>
      </p:sp>
    </p:spTree>
  </p:cSld>
  <p:transition>
    <p:random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adial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only 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hyperellipsoidal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yperellipsoidal, the representative equation can beco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center of the ellipse and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positive definite symmetric matrix defining major axis, minor axis and ori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the following is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||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 to the constra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In wor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ntersection poin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tween the line segmen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determ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quared Euclidean distance between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compu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E85-6EF1-422A-AF8A-8C15F5B11290}" type="slidenum">
              <a:t>24</a:t>
            </a:fld>
          </a:p>
        </p:txBody>
      </p:sp>
    </p:spTree>
  </p:cSld>
  <p:transition>
    <p:random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quared)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rmalized radial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only 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hyperellipsoidal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((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ahoma"/>
              </a:rPr>
              <a:t>Example 3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sider two ellipses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centered at </a:t>
            </a:r>
            <a:r>
              <a:rPr b="0" i="1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=[0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0]</a:t>
            </a:r>
            <a:r>
              <a:rPr b="0" i="1" lang="en-US" sz="19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with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diag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.25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=diag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1/16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¼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respectively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be a point in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moving from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0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-4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0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with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03280" y="2935440"/>
            <a:ext cx="6048360" cy="33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A456-8E02-432D-8901-F5F053DB820F}" type="slidenum">
              <a:t>25</a:t>
            </a:fld>
          </a:p>
        </p:txBody>
      </p:sp>
    </p:spTree>
  </p:cSld>
  <p:transition>
    <p:random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4581360"/>
            <a:ext cx="885672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53000" indent="-27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 not vary 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v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53000" indent="-27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be used as an approxim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hyperellipsoi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47640" y="1117440"/>
            <a:ext cx="4319640" cy="3360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9280" y="54936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6F64-AFEF-4231-A98F-6D31A5D02EF7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uzzy Shell Clustering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daptive Fuzzy C-Shells (AFCS)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recovers hyperellipsoidal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the result of the minimization of the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’s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CS stems from GFAS, with the “parameter updating” being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meter updat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171880" indent="-34308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ve with respec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following equ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68360" y="2436840"/>
                <a:ext cx="3024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r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16360" y="5038560"/>
                <a:ext cx="31683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556000" y="5857920"/>
                <a:ext cx="39607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O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CC9-B07C-4703-83F9-424AB9C361A3}" type="slidenum">
              <a:t>27</a:t>
            </a:fld>
          </a:p>
        </p:txBody>
      </p:sp>
    </p:spTree>
  </p:cSld>
  <p:transition>
    <p:random/>
  </p:transition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e resulting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Thick dots represent the points of the data set. Thin dots represent (a) the initial estimates and (b) the final estimates of the ellip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74880" y="569880"/>
                <a:ext cx="37767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857240" y="1000080"/>
                <a:ext cx="32194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87280" y="3397320"/>
            <a:ext cx="7561440" cy="296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3BE9-E9EA-471C-9933-4C7C9FE33ED3}" type="slidenum">
              <a:t>28</a:t>
            </a:fld>
          </a:p>
        </p:txBody>
      </p:sp>
    </p:spTree>
  </p:cSld>
  <p:transition>
    <p:random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 Ellipsoidal Shells (FCES)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recovers hyperellipsoidal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the result of the minimization of the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CES stems from GFAS. Setting the derivativ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 equal to zero, the “parameter updating” part of the algorithm follow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 Quadric Shells (FCQS)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recovers general hyperquadric shap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the result of the minimization of the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 to constraints such 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124000" y="1989000"/>
                <a:ext cx="33116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403280" y="5276880"/>
                <a:ext cx="64087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sSub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p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p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C24D-D4AE-4403-B4A9-6EE23A1819AF}" type="slidenum">
              <a:t>29</a:t>
            </a:fld>
          </a:p>
        </p:txBody>
      </p:sp>
    </p:spTree>
  </p:cSld>
  <p:transition>
    <p:random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8000" y="0"/>
            <a:ext cx="885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ixture Decomposition (MD) sche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re, each vect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belongs to a single clu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a certain prob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D schemes rely on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Bayesian framewor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ppointed to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luster labeling information is available for the data ve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 priori cluster probabilit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also unkn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olution: Adoption of th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M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-st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l-GR" sz="2000" spc="-1" strike="noStrike" baseline="30000">
                <a:solidFill>
                  <a:srgbClr val="000000"/>
                </a:solidFill>
                <a:latin typeface="Times New Roman"/>
              </a:rPr>
              <a:t>Τ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parameter vector corresponding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a priori probability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258920" y="4475160"/>
                <a:ext cx="59770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;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03F3-94C5-47E3-806D-C0E81C9AAA1E}" type="slidenum">
              <a:t>3</a:t>
            </a:fld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63960" indent="-363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ii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v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7936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CQS stems from GFAS. Setting the derivativ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equal to zero and taking into account the constraints,  the “parameter updating” part of the algorithm follow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323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ified Fuzzy C Quadric Shells (MFCQS)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7936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recovers hyperquadric shap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7936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results from the GFAS scheme 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2720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rade of membership of 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a cluster is determined using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erpendicular dista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2720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pdating of the parameters of the representatives is carried out using the parameter updating part of FCQS (where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lgebraic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use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348000" y="765000"/>
                <a:ext cx="1295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716360" y="1413000"/>
                <a:ext cx="331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|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203-0A17-44C6-8AC2-77E6E0BDB089}" type="slidenum">
              <a:t>30</a:t>
            </a:fld>
          </a:p>
        </p:txBody>
      </p:sp>
    </p:spTree>
  </p:cSld>
  <p:transition>
    <p:random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Hyperplanes as represent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gorithms that recover hyperplanar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-varieties (FCV)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based on the minimization of the distances of the vector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hyperpla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Disadvantag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t tends to recover very long clusters and, thus,  collinear distinct clusters may be merged to a single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ustafson-Kessel (GK)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planar cluster is represented by a cente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a covariance matrix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.e., 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istance between a poin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luster is defined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G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|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/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K algorithm is derived via the minimization of the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050920" y="5877000"/>
                <a:ext cx="31687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K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60C-07A6-418D-A059-B77BD0CE6211}" type="slidenum">
              <a:t>31</a:t>
            </a:fld>
          </a:p>
        </p:txBody>
      </p:sp>
    </p:spTree>
  </p:cSld>
  <p:transition>
    <p:random/>
  </p:transition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Hyperplan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K algorithm stems from GFAS. Setting the derivativ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G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equal to zero, the “parameter updating” part of the algorithm becom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5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411280" y="1628640"/>
                <a:ext cx="18734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340000" y="2792520"/>
                <a:ext cx="39607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c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c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08000" y="4146480"/>
            <a:ext cx="5185080" cy="26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18FF-2A96-41AE-834E-410D0C51D716}" type="slidenum">
              <a:t>32</a:t>
            </a:fld>
          </a:p>
        </p:txBody>
      </p:sp>
    </p:spTree>
  </p:cSld>
  <p:transition>
    <p:random/>
  </p:transition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first case, the clusters are well separated and the GK-algorithm recovers them correct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second case, the clusters are not well separated and the GK-algorithm fails to recover them correct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906560" y="519120"/>
            <a:ext cx="511344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199-82DC-46A8-9A6D-F13F54850FAE}" type="slidenum">
              <a:t>33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ssibilistic Clus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like fuzzy clustering, the constraints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[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,…,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stic clustering algorithms result from the optimization of cost functions li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suitably chosen positive constants (see below).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term is inserted in order to avoid the trivial zero solution for th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’ 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other choices for the second term of the cost function are also possible (see below)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ting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e obtai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403280" y="1916280"/>
                <a:ext cx="273708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403280" y="3213000"/>
                <a:ext cx="43210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q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932360" y="5229360"/>
                <a:ext cx="2519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BF9-E8F7-4C3D-9557-BAF145E33F9C}" type="slidenum">
              <a:t>34</a:t>
            </a:fld>
          </a:p>
        </p:txBody>
      </p:sp>
    </p:spTree>
  </p:cSld>
  <p:transition>
    <p:random/>
  </p:transition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ssibilistic clustering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eneralized Possibilistic Algorithmic Scheme (GPA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the initial estimates of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98920" y="3616200"/>
                <a:ext cx="30970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9E1E-896A-4FD2-A050-A9BDC665A00C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ssibilistic clustering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Generalized Possibilistic Algorithmic Scheme (GPAS) (co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 updatin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ol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set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e computed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il a termination criterion is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||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be employed as a termination condi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GPAS, a possibilistic algorithm can be derived, for each fuzzy clustering algorithm derived previous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627280" y="1773360"/>
                <a:ext cx="30243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6EF8-22BA-45F9-BACC-8F0CABD255A6}" type="slidenum">
              <a:t>36</a:t>
            </a:fld>
          </a:p>
        </p:txBody>
      </p:sp>
    </p:spTree>
  </p:cSld>
  <p:transition>
    <p:random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55960" indent="-25596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ssibilistic clustering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1720" indent="-1933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wo observ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15696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composition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3333cc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Since for each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independent from each oth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be written a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rresponds to a different cluster and minimiz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can be carried out separately for ea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15696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bout </a:t>
            </a:r>
            <a:r>
              <a:rPr b="0" i="1" lang="el-GR" sz="2000" spc="-1" strike="noStrike">
                <a:solidFill>
                  <a:srgbClr val="3333cc"/>
                </a:solidFill>
                <a:latin typeface="Times New Roman"/>
              </a:rPr>
              <a:t>η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’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42440" indent="-2192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determine the relative significance of the two term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42440" indent="-2192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are related to the size and the “shape”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42440" indent="-2192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determined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734120" indent="-2192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the GFAS algorithm and after its convergence estimat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7341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734120" indent="-2192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the GPAS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6720" y="1332000"/>
                <a:ext cx="1511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338560" y="1995480"/>
                <a:ext cx="35287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q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556000" y="5403960"/>
                <a:ext cx="21603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869080" y="5432400"/>
                <a:ext cx="18716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1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883-2AAC-43A0-8C91-0026717524FC}" type="slidenum">
              <a:t>37</a:t>
            </a:fld>
          </a:p>
        </p:txBody>
      </p:sp>
    </p:spTree>
  </p:cSld>
  <p:transition>
    <p:random/>
  </p:transition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8000" y="43920"/>
            <a:ext cx="8856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ssibilistic clustering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value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ossibilistic cluste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mply almost equal contributions of all vectors to all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luste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mply increased sharing of the vectors among all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mode-seeking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like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MD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F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ich ar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rtition algorith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y terminate with the predetermined number of clusters no matter how many clusters are naturally formed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P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ode-seeking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it searches for dense regions of vector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tage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number of clusters need not be a priori know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number of clusters in GPA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s greater than the tru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ome representatives will coincide with others.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and not all) of the clusters will be captu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7FA-8516-47A3-8126-616FF62BAAA2}" type="slidenum">
              <a:t>38</a:t>
            </a:fld>
          </a:p>
        </p:txBody>
      </p:sp>
    </p:spTree>
  </p:cSld>
  <p:transition>
    <p:random/>
  </p:transition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vector belong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xclusive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a single cluster. This implies tha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at is, it can be seen as an extreme special case of the fuzzy algorithmic sche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now,  the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ot differentiab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pite that, the two-step optimization procedure (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and 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) adopted in GFAS is applied also here, taking into account that, for fixed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,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that minimiz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chose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187280" y="1609560"/>
                <a:ext cx="136872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268360" y="3429000"/>
                <a:ext cx="23036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763640" y="5538960"/>
                <a:ext cx="583416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m</m:t>
                                  </m:r>
                                </m:sub>
                              </m:sSub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</m:e>
                          </m:mr>
                        </m:m>
                        <m:r>
                          <m:t xml:space="preserve">,</m:t>
                        </m:r>
                        <m:sSubSup>
                          <m:e/>
                          <m:sub/>
                          <m:sup/>
                        </m:sSub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4A7-174C-48EE-9089-04EC8850EC8F}" type="slidenum">
              <a:t>39</a:t>
            </a:fld>
          </a:p>
        </p:txBody>
      </p:sp>
    </p:spTree>
  </p:cSld>
  <p:transition>
    <p:random/>
  </p:transition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-st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l-GR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specifically, the M-step results i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 </a:t>
            </a:r>
            <a:r>
              <a:rPr b="0" i="1" lang="el-GR" sz="2000" spc="-1" strike="noStrike" u="sng">
                <a:solidFill>
                  <a:srgbClr val="3333cc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’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*) Provided that all pairs o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re functionally independe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’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**) Taking into account the constraint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+…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, the EM algorithm for this case may be stated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741320" y="2620800"/>
                <a:ext cx="441504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629080" y="4459320"/>
                <a:ext cx="2663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**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ED4-5F93-4830-9D60-800032862CE6}" type="slidenum">
              <a:t>4</a:t>
            </a:fld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Generalized Hard Algorithmic Scheme (GH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initial estimates for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termination of the parti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411280" y="3138480"/>
                <a:ext cx="633744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m</m:t>
                                  </m:r>
                                </m:sub>
                              </m:sSub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</m:e>
                          </m:mr>
                        </m:m>
                        <m:r>
                          <m:t xml:space="preserve">,</m:t>
                        </m:r>
                        <m:sSubSup>
                          <m:e/>
                          <m:sub/>
                          <m:sup/>
                        </m:sSub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149-2E42-4910-A6BA-1FA6B5989938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Generalized Hard Algorithmic Scheme (GHAS) (con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 updatin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ol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set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e computed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il a termination criterion is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update of each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only the vector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whi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u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HAS may terminate when ei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||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mains unchanged for two successive iter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411280" y="1589040"/>
                <a:ext cx="2808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5FB-8505-4603-AA16-A8DB46AC3E7F}" type="slidenum">
              <a:t>41</a:t>
            </a:fld>
          </a:p>
        </p:txBody>
      </p:sp>
    </p:spTree>
  </p:cSld>
  <p:transition>
    <p:random/>
  </p:transition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More 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 each hard clustering algorithm there exists a corresponding fuzzy clustering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 updating equations for the parameter vectors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hard clustering algorithms are obtained from their fuzzy counterpart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 clustering algorithms are not as robust as the fuzzy clustering algorithms when other than point representatives are u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wo-step optimization procedure in GHA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oes not necessarily lead to a local 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DF3D-02CA-4699-BD46-B783C9432216}" type="slidenum">
              <a:t>42</a:t>
            </a:fld>
          </a:p>
        </p:txBody>
      </p:sp>
    </p:spTree>
  </p:cSld>
  <p:transition>
    <p:random/>
  </p:transition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8000" y="-2700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Isodata or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-Means or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-Means algorith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eneral com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a special case of GHAS 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 representatives are u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quared Euclidean distance is employ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st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comes n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ing GHAS in this case, it turns out that it converges to a minimum of the cost fun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data recovers clusters that are as compact as poss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other choices of the distance (including the Euclidean), the algorithm converges but not necessarily to a minimum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050920" y="2637000"/>
                <a:ext cx="3600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AE2-A9DA-4593-BEBF-2E371E4CF36E}" type="slidenum">
              <a:t>43</a:t>
            </a:fld>
          </a:p>
        </p:txBody>
      </p:sp>
    </p:spTree>
  </p:cSld>
  <p:transition>
    <p:random/>
  </p:transition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4120" y="73080"/>
            <a:ext cx="8778600" cy="65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he Isodata 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-Means 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-Means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arbitrary initial estimates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the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 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the closest representative, say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f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 updatin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termine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the mean of the vector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(i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il no change in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 s occurs between two successive it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6(a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The k-means algorithm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dentifies successfully the clusters in the data set of example 1(a). The confusion matrix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348000" y="5516640"/>
                <a:ext cx="19447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B66-0A01-4D06-AC6D-2CCC8D0F9DE3}" type="slidenum">
              <a:t>44</a:t>
            </a:fld>
          </a:p>
        </p:txBody>
      </p:sp>
    </p:spTree>
  </p:cSld>
  <p:transition>
    <p:random/>
  </p:transition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885672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– k-mean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6(b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i) Consider tw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imensional Gaussian distributio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Σ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Σ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8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.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(ii) Gener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ints from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ribution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ints from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ribution. (iii)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initialize randomly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convergence the large group has been split into two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right part has been assigned to the same cluster with the points of the small group (see figure below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ndicates that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k-means cannot deal accurately with clusters having significantly different siz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547640" y="4221000"/>
            <a:ext cx="5834160" cy="25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1667-9EDF-4EFB-AB74-C5B9E67BEA6C}" type="slidenum">
              <a:t>45</a:t>
            </a:fld>
          </a:p>
        </p:txBody>
      </p:sp>
    </p:spTree>
  </p:cSld>
  <p:transition>
    <p:random/>
  </p:transition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– k-mean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-means recovers compact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quential vers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k-means, where the updating of the representatives takes place immediately after the identification of the representative that lies closer to the current input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have also been prop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variant of the k-means results if the number of vectors in each cluster is constrain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prior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putational complexity of the k-means is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Nmq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number of iterations required for convergence. In practic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significantly less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us,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k-means becomes eligible for processing large data se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Further 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drawbacks of the original k-means accompanied with the variants of the k-means that deal with them are discussed nex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C32-3D93-46FB-A4AE-55AC0A48B3DE}" type="slidenum">
              <a:t>46</a:t>
            </a:fld>
          </a:p>
        </p:txBody>
      </p:sp>
    </p:spTree>
  </p:cSld>
  <p:transition>
    <p:random/>
  </p:transition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0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8000" y="73080"/>
            <a:ext cx="8856720" cy="65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– k-mean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rawback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ifferent initial partitions may lead k-means to produ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ifferent final clusterings, each one corresponding to a different local minim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ategies for facing drawback 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run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a sequential algorithm (discussed previously) to produce initial estimates for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randomly the data set in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sets and use their means as initial estimates for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 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run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different partition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run k-means for each one of them and select the best resul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 the representatives iteratively, one at a time, by running k-mea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imes. It is claimed that convergence is independent of the initial estimates of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 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ilization of tools from stochastic optimization techniques (simulated annealing, genetic algorithms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0CF7-A666-400E-BD27-DBBC27B0FFDE}" type="slidenum">
              <a:t>47</a:t>
            </a:fld>
          </a:p>
        </p:txBody>
      </p:sp>
    </p:spTree>
  </p:cSld>
  <p:transition>
    <p:random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– k - mean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rawback 2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nowledge of 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is required a prior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ategies for facing drawback 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loy splitting, merging and discarding operations of the clusters resulting from k-mea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a sequential algorithm many times for different thresholds of dissimilarity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o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rsus the number of clusters and identify the largest plateau in the graph and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e value that corresponds to this plateau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9B9-5CB9-4D62-9757-0EA31F90C30E}" type="slidenum">
              <a:t>48</a:t>
            </a:fld>
          </a:p>
        </p:txBody>
      </p:sp>
    </p:spTree>
  </p:cSld>
  <p:transition>
    <p:random/>
  </p:transition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– k - mean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rawback 3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-means is sensitive to outliers and nois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ategies for facing drawback 3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ard all “small” clusters (they are likely to be formed by outlier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a k-medoids algorithm (see below), where a cluster is represented by one of its poi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rawback 4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-means is not suitable for data with nominal (categorical) coordinat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ategies for facing drawback 4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a k-medoids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A6D-2F98-438E-A4DF-627995B5F075}" type="slidenum">
              <a:t>49</a:t>
            </a:fld>
          </a:p>
        </p:txBody>
      </p:sp>
    </p:spTree>
  </p:cSld>
  <p:transition>
    <p:random/>
  </p:transition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4480" y="188640"/>
            <a:ext cx="88502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eneralized Mixture Decomposition Algorithmic Scheme (GMDA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initial estimates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N,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 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e solution of the equ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                     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il convergence, 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s achiev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547640" y="2276640"/>
                <a:ext cx="424836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124000" y="3724200"/>
                <a:ext cx="4319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87640" y="5237280"/>
                <a:ext cx="30607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D8E5-80D7-41A0-802F-14BA5BA85031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k-Medoids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cluster is represented by a vector select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mo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lement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edoi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uster conta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medo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vector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th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not used as medoids in other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e closer to its medoid than the medoids representing other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 the set of medoids of all clusters,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set of indices of the poin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constitut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-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set of indices of the points that are not medoi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taining the set of medoid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best represents the data se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equivalent to minimizing the following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D21-F506-41AA-A7E6-542DD3234CCA}" type="slidenum">
              <a:t>50</a:t>
            </a:fld>
          </a:p>
        </p:txBody>
      </p:sp>
    </p:spTree>
  </p:cSld>
  <p:transition>
    <p:random/>
  </p:transition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0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-Medoids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195640" y="1066680"/>
                <a:ext cx="2808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Θ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476360" y="2100240"/>
                <a:ext cx="52563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</m:t>
                                  </m:r>
                                </m:e>
                                <m:sub>
                                  <m:r>
                                    <m:t xml:space="preserve">q</m:t>
                                  </m:r>
                                  <m:r>
                                    <m:t xml:space="preserve">∈</m:t>
                                  </m:r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q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</m:e>
                          </m:mr>
                        </m:m>
                        <m:r>
                          <m:t xml:space="preserve">,</m:t>
                        </m:r>
                        <m:sSubSup>
                          <m:e/>
                          <m:sub/>
                          <m:sup/>
                        </m:sSub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152-7B41-41A8-BE89-568446D19676}" type="slidenum">
              <a:t>51</a:t>
            </a:fld>
          </a:p>
        </p:txBody>
      </p:sp>
    </p:spTree>
  </p:cSld>
  <p:transition>
    <p:random/>
  </p:transition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ing clusters with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ean</a:t>
            </a:r>
            <a:r>
              <a:rPr b="0" lang="el-GR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alu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presenting clusters with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edoi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908000" y="1341360"/>
          <a:ext cx="4608360" cy="5076720"/>
        </p:xfrm>
        <a:graphic>
          <a:graphicData uri="http://schemas.openxmlformats.org/drawingml/2006/table">
            <a:tbl>
              <a:tblPr/>
              <a:tblGrid>
                <a:gridCol w="2160720"/>
                <a:gridCol w="24476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an Val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do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Suited only for continuous dom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Suited for either cont. or discrete dom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lgorithms using means are sensitive to out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lgorithms using medoids  are less sensitive to out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3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he mean possess a clear geometrical and statistical 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3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he medoid has not a clear geometrical 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4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lgorithms using means are not computationally dem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4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lgorithms using medoids are more computationally dem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BA54-A1A9-4B32-A76B-CAC3D93ADAD2}" type="slidenum">
              <a:t>52</a:t>
            </a:fld>
          </a:p>
        </p:txBody>
      </p:sp>
    </p:spTree>
  </p:cSld>
  <p:transition>
    <p:random/>
  </p:transition>
  <p:timing>
    <p:tnLst>
      <p:par>
        <p:cTn id="1775" dur="indefinite" restart="never" nodeType="tmRoot">
          <p:childTnLst>
            <p:seq>
              <p:cTn id="1776" dur="indefinite" nodeType="mainSeq">
                <p:childTnLst>
                  <p:par>
                    <p:cTn id="1777" fill="hold">
                      <p:stCondLst>
                        <p:cond delay="0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546200" y="3846600"/>
            <a:ext cx="6121440" cy="2606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08000" y="115920"/>
            <a:ext cx="88567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-Medoids Algorithms 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It illustrates the first two points in the above compari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) The five-point two-dimensional set stems from the discrete doma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{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Its medoid is the circled point an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ts m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 point, which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oes not belong to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)  In the six-point two-dimensional set , the poi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9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be considered as an outlier. Whil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he outlier affects significantly the m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set,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t does not affect its medoi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FD65-A1F4-4242-AD31-9A9BB430705D}" type="slidenum">
              <a:t>53</a:t>
            </a:fld>
          </a:p>
        </p:txBody>
      </p:sp>
    </p:spTree>
  </p:cSld>
  <p:transition>
    <p:random/>
  </p:transition>
  <p:timing>
    <p:tnLst>
      <p:par>
        <p:cTn id="1783" dur="indefinite" restart="never" nodeType="tmRoot">
          <p:childTnLst>
            <p:seq>
              <p:cTn id="1784" dur="indefinite" nodeType="mainSeq">
                <p:childTnLst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8000" y="115920"/>
            <a:ext cx="88567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lgorithms to be consi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M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ition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oi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uster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L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plic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NS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uster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g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plications base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R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miz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r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PAM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equir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prior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finitions-prelimin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sets of medoid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ach one consisting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are call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eighbo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 the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ha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medoids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 can hav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eighb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 the neighbor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results i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-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place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AFEC-793B-4E49-A896-4E5BFD3547FE}" type="slidenum">
              <a:t>54</a:t>
            </a:fld>
          </a:p>
        </p:txBody>
      </p:sp>
    </p:spTree>
  </p:cSld>
  <p:transition>
    <p:random/>
  </p:transition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8856720" cy="67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PAM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termination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that best represents th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te a s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doids, randomly selected ou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) Determine the neighb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-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mong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-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eighbors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which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m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000" spc="-1" strike="noStrike" baseline="-44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, 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44000">
                <a:solidFill>
                  <a:srgbClr val="000000"/>
                </a:solidFill>
                <a:latin typeface="Times New Roman"/>
              </a:rPr>
              <a:t>X-</a:t>
            </a:r>
            <a:r>
              <a:rPr b="0" i="1" lang="el-GR" sz="2000" spc="-1" strike="noStrike" baseline="-44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negative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128320" indent="-33588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y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128320" indent="-33588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 to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ssignment of points to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 each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-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the cluster represented by the closes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doi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utation of </a:t>
            </a:r>
            <a:r>
              <a:rPr b="0" i="1" lang="el-GR" sz="2000" spc="-1" strike="noStrike">
                <a:solidFill>
                  <a:srgbClr val="3333cc"/>
                </a:solidFill>
                <a:latin typeface="Times New Roman"/>
              </a:rPr>
              <a:t>Δ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It is defined 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difference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ulting from the (possible) assignment of the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cluster it currently belongs to another, as a consequence of the replacement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219640" y="4784760"/>
                <a:ext cx="18003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55C-3751-4586-AA40-B54A90C9DB50}" type="slidenum">
              <a:t>55</a:t>
            </a:fld>
          </a:p>
        </p:txBody>
      </p:sp>
    </p:spTree>
  </p:cSld>
  <p:transition>
    <p:random/>
  </p:transition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8000" y="217080"/>
            <a:ext cx="903600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PAM algorithm (co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utation of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u="sng" baseline="-25000">
                <a:solidFill>
                  <a:srgbClr val="3333cc"/>
                </a:solidFill>
                <a:uFillTx/>
                <a:latin typeface="Times New Roman"/>
              </a:rPr>
              <a:t>h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longs to the cluster represented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second closes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presentative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i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longs to the cluster represented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second closes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presentative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i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(&gt;&lt;)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24360" y="4653000"/>
          <a:ext cx="2174760" cy="17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4653000"/>
                    <a:ext cx="217476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659480" y="2133720"/>
          <a:ext cx="1712880" cy="167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59480" y="2133720"/>
                    <a:ext cx="171288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732720" y="4863960"/>
          <a:ext cx="2084400" cy="1013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32720" y="4863960"/>
                    <a:ext cx="20844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34B-91C2-491B-A674-02BE426EA477}" type="slidenum">
              <a:t>56</a:t>
            </a:fld>
          </a:p>
        </p:txBody>
      </p:sp>
    </p:spTree>
  </p:cSld>
  <p:transition>
    <p:random/>
  </p:transition>
  <p:timing>
    <p:tnLst>
      <p:par>
        <p:cTn id="1911" dur="indefinite" restart="never" nodeType="tmRoot">
          <p:childTnLst>
            <p:seq>
              <p:cTn id="1912" dur="indefinite" nodeType="mainSeq">
                <p:childTnLst>
                  <p:par>
                    <p:cTn id="1913" fill="hold">
                      <p:stCondLst>
                        <p:cond delay="0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480" y="189000"/>
            <a:ext cx="885024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PAM algorithm (co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utation of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u="sng" baseline="-25000">
                <a:solidFill>
                  <a:srgbClr val="3333cc"/>
                </a:solidFill>
                <a:uFillTx/>
                <a:latin typeface="Times New Roman"/>
              </a:rPr>
              <a:t>h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cont.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represented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closes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doid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represented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closes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doid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i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97320" y="1844640"/>
          <a:ext cx="121140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97320" y="1844640"/>
                    <a:ext cx="12114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805280" y="4608360"/>
          <a:ext cx="2503440" cy="191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5280" y="4608360"/>
                    <a:ext cx="25034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1294-2F2F-4776-A892-BE047B012B5D}" type="slidenum">
              <a:t>57</a:t>
            </a:fld>
          </a:p>
        </p:txBody>
      </p:sp>
    </p:spTree>
  </p:cSld>
  <p:transition>
    <p:random/>
  </p:transition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fill="hold">
                      <p:stCondLst>
                        <p:cond delay="0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8000" y="404640"/>
            <a:ext cx="88567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PAM algorithm (co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mental results show the PAM work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atisfactorily with small data se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computational complexity per iteration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-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nsuitable for large data se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536B-BF73-4A56-BF41-43F2A4C46D42}" type="slidenum">
              <a:t>58</a:t>
            </a:fld>
          </a:p>
        </p:txBody>
      </p:sp>
    </p:spTree>
  </p:cSld>
  <p:transition>
    <p:random/>
  </p:transition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0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43920"/>
            <a:ext cx="8856720" cy="681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e CLARA algorith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more suitable for large data se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trate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 randomly a samp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siz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entire data s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the PAM algorithm to determine 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best represen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place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represent the entir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rationa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ing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been selected in a way representative of the statistical distribution of the data poin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ll be a good approximation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ich would have been produced if PAM were run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ample subsets of siz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deno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ypical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+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PAM on each one of them and identify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,…,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the s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minimiz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the entir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340000" y="5877000"/>
                <a:ext cx="3600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'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222-AC25-4C6B-BC8C-5748DB45B14A}" type="slidenum">
              <a:t>59</a:t>
            </a:fld>
          </a:p>
        </p:txBody>
      </p:sp>
    </p:spTree>
  </p:cSld>
  <p:transition>
    <p:random/>
  </p:transition>
  <p:timing>
    <p:tnLst>
      <p:par>
        <p:cTn id="1999" dur="indefinite" restart="never" nodeType="tmRoot">
          <p:childTnLst>
            <p:seq>
              <p:cTn id="2000" dur="indefinite" nodeType="mainSeq">
                <p:childTnLst>
                  <p:par>
                    <p:cTn id="2001" fill="hold">
                      <p:stCondLst>
                        <p:cond delay="0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termination condition for GMDAS i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)-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|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n appropriate vector norm a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small user-defined const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bove scheme is guaranteed 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nverge to a global or a local maximum of the loglikelihood fun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ce the algorithm has converged,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’s are assigned to clusters according to the Bayes ru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6341-8D88-48C8-8A33-8531E2B5214E}" type="slidenum">
              <a:t>6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08000" y="0"/>
            <a:ext cx="885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he CLARANS algorith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is more suitable for large data set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follows the philosophy of PAM with the difference that only a fractio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&lt;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-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f the neighbors of the current set of medoids is consider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performs several runs 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starting from different initial conditions fo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The algorith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ize randomly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) Select randoml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neighbors of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* If the present neighbor of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s better than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in terms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th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- Set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 to its neighb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- Go to (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* End I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F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Fo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the best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ed on this set of medoids assign each vector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luster whose representative is closest to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214-573C-4753-8D28-8082AE55BDD0}" type="slidenum">
              <a:t>60</a:t>
            </a:fld>
          </a:p>
        </p:txBody>
      </p:sp>
    </p:spTree>
  </p:cSld>
  <p:transition>
    <p:random/>
  </p:transition>
  <p:timing>
    <p:tnLst>
      <p:par>
        <p:cTn id="2063" dur="indefinite" restart="never" nodeType="tmRoot">
          <p:childTnLst>
            <p:seq>
              <p:cTn id="2064" dur="indefinite" nodeType="mainSeq">
                <p:childTnLst>
                  <p:par>
                    <p:cTn id="2065" fill="hold">
                      <p:stCondLst>
                        <p:cond delay="0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1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1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1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1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1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1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1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1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1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1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18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18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2320" y="475920"/>
            <a:ext cx="90313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396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CLARANS algorithm (co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3960" indent="-18900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NS depends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ypically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max(0.12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-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pproach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-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RANS approaches PAM and the complexity incre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NS can also be described in terms of graph theory concep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NS unravels better quality clusters than CLA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some cases, CLARA is significantly faster than CLARA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NS retains its quadratic computational nature and thus it is not appropriate for very large data se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E22-29E7-4FD1-92CE-D0EF7BF5B388}" type="slidenum">
              <a:t>61</a:t>
            </a:fld>
          </a:p>
        </p:txBody>
      </p:sp>
    </p:spTree>
  </p:cSld>
  <p:transition>
    <p:random/>
  </p:transition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fill="hold">
                      <p:stCondLst>
                        <p:cond delay="0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7640" y="115560"/>
            <a:ext cx="8785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act and Hyperellipsoidal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is cas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ach cluster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is modeled by a normal distributio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ff0000"/>
                </a:solidFill>
                <a:uFillTx/>
                <a:latin typeface="Times New Roman"/>
              </a:rPr>
              <a:t>μ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l-GR" sz="2000" spc="-1" strike="noStrike">
                <a:solidFill>
                  <a:srgbClr val="ff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ists of the parameters of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he (independent) parameters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this cas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. (1) in GMDAS is replaced 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. (2) in GMDAS is replaced by the equ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63640" y="2179800"/>
                <a:ext cx="41767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16000" y="3770280"/>
                <a:ext cx="57610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;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004760" y="5530680"/>
                <a:ext cx="23432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708360" y="5543640"/>
                <a:ext cx="38880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826-D853-401F-A023-2F052237653E}" type="slidenum">
              <a:t>7</a:t>
            </a:fld>
          </a:p>
        </p:txBody>
      </p:sp>
    </p:spTree>
  </p:cSld>
  <p:transition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2080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2868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bove schem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mputationally very demand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ince it requires the inversion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variance matrices at each iteration step. Two ways to deal with this problem ar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2868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se of 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ngle covariance matrix for all clust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2868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se of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ifferent diagonal covariance matr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a) Consider three two-dimensional normal distributions with mean valu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1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covariance matr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ective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ctors stem from each distribution. These form th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476360" y="4149720"/>
                <a:ext cx="62643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371-B7DD-4C2A-8E3C-D04745B0DEA3}" type="slidenum">
              <a:t>8</a:t>
            </a:fld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800" y="333360"/>
            <a:ext cx="7270920" cy="3247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38955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usion matri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700360" y="4076640"/>
          <a:ext cx="5687640" cy="1726920"/>
        </p:xfrm>
        <a:graphic>
          <a:graphicData uri="http://schemas.openxmlformats.org/drawingml/2006/table">
            <a:tbl>
              <a:tblPr/>
              <a:tblGrid>
                <a:gridCol w="1990440"/>
                <a:gridCol w="1208880"/>
                <a:gridCol w="1244160"/>
                <a:gridCol w="1244160"/>
              </a:tblGrid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s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d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rd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181800" y="5985000"/>
            <a:ext cx="78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algorithm reveals accurately the underlying stru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84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data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45080" y="327816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s of GM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19F9-B7FA-48C3-BCE6-C5F3A3542030}" type="slidenum">
              <a:t>9</a:t>
            </a:fld>
          </a:p>
        </p:txBody>
      </p:sp>
    </p:spTree>
  </p:cSld>
  <p:transition>
    <p:random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12-22T11:29:34Z</dcterms:modified>
  <cp:revision>859</cp:revision>
  <dc:subject/>
  <dc:title>PowerPoint Presentation</dc:title>
</cp:coreProperties>
</file>